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type.wav" ContentType="audio/x-wav"/>
  <Override PartName="/ppt/media/image18.png" ContentType="image/png"/>
  <Override PartName="/ppt/media/image6.jpeg" ContentType="image/jpeg"/>
  <Override PartName="/ppt/media/image19.png" ContentType="image/png"/>
  <Override PartName="/ppt/media/image26.gif" ContentType="image/gif"/>
  <Override PartName="/ppt/media/camera.wav" ContentType="audio/x-wav"/>
  <Override PartName="/ppt/media/image22.gif" ContentType="image/gif"/>
  <Override PartName="/ppt/media/image4.jpeg" ContentType="image/jpeg"/>
  <Override PartName="/ppt/media/suction.wav" ContentType="audio/x-wav"/>
  <Override PartName="/ppt/media/image25.png" ContentType="image/png"/>
  <Override PartName="/ppt/media/wind.wav" ContentType="audio/x-wav"/>
  <Override PartName="/ppt/media/image21.jpeg" ContentType="image/jpeg"/>
  <Override PartName="/ppt/media/chimes.wav" ContentType="audio/x-wav"/>
  <Override PartName="/ppt/media/image9.gif" ContentType="image/gif"/>
  <Override PartName="/ppt/media/image1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media/image27.png" ContentType="image/png"/>
  <Override PartName="/ppt/media/image28.png" ContentType="image/png"/>
  <Override PartName="/ppt/media/image5.gif" ContentType="image/gif"/>
  <Override PartName="/ppt/media/image14.jpeg" ContentType="image/jpeg"/>
  <Override PartName="/ppt/media/image3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1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15.jpeg" ContentType="image/jpeg"/>
  <Override PartName="/ppt/media/image17.jpeg" ContentType="image/jpe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  <p:sldId id="298" r:id="rId68"/>
    <p:sldId id="299" r:id="rId69"/>
    <p:sldId id="300" r:id="rId70"/>
    <p:sldId id="301" r:id="rId71"/>
    <p:sldId id="302" r:id="rId72"/>
    <p:sldId id="303" r:id="rId73"/>
    <p:sldId id="304" r:id="rId74"/>
    <p:sldId id="305" r:id="rId75"/>
    <p:sldId id="306" r:id="rId76"/>
    <p:sldId id="307" r:id="rId77"/>
    <p:sldId id="308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slide" Target="slides/slide43.xml"/><Relationship Id="rId69" Type="http://schemas.openxmlformats.org/officeDocument/2006/relationships/slide" Target="slides/slide44.xml"/><Relationship Id="rId70" Type="http://schemas.openxmlformats.org/officeDocument/2006/relationships/slide" Target="slides/slide45.xml"/><Relationship Id="rId71" Type="http://schemas.openxmlformats.org/officeDocument/2006/relationships/slide" Target="slides/slide46.xml"/><Relationship Id="rId72" Type="http://schemas.openxmlformats.org/officeDocument/2006/relationships/slide" Target="slides/slide47.xml"/><Relationship Id="rId73" Type="http://schemas.openxmlformats.org/officeDocument/2006/relationships/slide" Target="slides/slide48.xml"/><Relationship Id="rId74" Type="http://schemas.openxmlformats.org/officeDocument/2006/relationships/slide" Target="slides/slide49.xml"/><Relationship Id="rId75" Type="http://schemas.openxmlformats.org/officeDocument/2006/relationships/slide" Target="slides/slide50.xml"/><Relationship Id="rId76" Type="http://schemas.openxmlformats.org/officeDocument/2006/relationships/slide" Target="slides/slide51.xml"/><Relationship Id="rId77" Type="http://schemas.openxmlformats.org/officeDocument/2006/relationships/slide" Target="slides/slide52.xml"/><Relationship Id="rId78" Type="http://schemas.openxmlformats.org/officeDocument/2006/relationships/slide" Target="slides/slide53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EE4-B5BE-4B2C-A0AF-B135DCB6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E51-16A3-4055-A731-1ABE4A94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ED3E1-288A-4580-BED5-0A0F9C7B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AB7BE-0D7B-49B6-89D5-D394405B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0ED17-B478-41E0-A66B-DA55A8C8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D5909-2665-40CE-A7D9-68CF6B48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31FBD-CBAB-48B9-90E7-EA5175C6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921FE-2A8C-4D9A-834B-AE020B1E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22538-6D60-4B6A-B643-B88003C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85B2D-A4C8-4627-BDF0-EBDB4818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5E192-6429-471D-B553-FA02D200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B8785-FA71-46B4-9D2D-6B92EF27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201-40EE-4FC1-BD69-10AE0800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57213-F2DC-47D8-93E4-0DDA5DC8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1C7E0-CAEC-465A-88F4-FA4A9441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A7C45-4C66-40E3-9993-B0A41F49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A806C-28F4-4BD2-825A-B9110750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3146A-D8E1-436B-945E-B927F194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0FA79-8F32-4E82-B2E0-09F39422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9F1B0-521A-44CE-A918-AF33DAD5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7521F-A9D9-4519-AD2B-86382A13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5BF07-3B87-4427-A466-E94CE05D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688BA-DF2F-427C-960A-2878DA7A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61E-8D22-43C1-A739-63EF5785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64FE2-2F48-4D30-ADD2-644CC247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25A30-1E82-451C-A24A-979060D7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75BCE-684D-4468-BFDF-C93C9610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B814E-51CA-4000-8248-5C859282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C9557-57B3-48AF-B4B1-E06DBB7C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F37FD-83F1-4ADF-A029-F7364AF9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BD0A9-7F55-48BC-8BF3-918AF36E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9EE4C-B02A-4998-821A-1E1D8CF7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56A69-6BE3-4B2E-9200-7E92F8F3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7F0F8-5E5F-4A2A-9982-68C0DB9E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6AB9-9A6F-4A42-A57E-FDF8EC36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562CB-CE8D-4D8A-9703-EF55DDFD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2E19D-9D76-44A3-88B2-3CE308D1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3A066-13AF-49A9-805E-8494C036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EBCF6-8EE9-425C-BF84-3BA17555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2FF45-0779-4A1F-B54D-5FAD9A1F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4BF3E-935F-470D-8DB0-032BC6CA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CFB07-2032-4DEA-AFBE-641BCB9E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3C3D9-D17F-456C-918A-9662546A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A49C7-AE7D-4079-8D94-C9491FB3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A4538-1A16-4816-B9EB-6F79190C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9047-264C-41BA-B07D-B7799226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2DB1A-3A4E-4996-AD60-9E20E872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297A3-D20F-410B-AC47-CC69CE72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42FF4-1BF3-4503-B5C7-20A04C61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908CD-5793-493F-9B51-56C07CF4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DF909-4A77-4EA0-A79C-18B0B543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785D6-A03E-40E5-A452-9D60DED2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80D573-D9C9-4E3B-8BC8-613B506C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507AD-33A0-4E9F-9C40-335667F3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B30C9-6327-4761-A25F-DB122786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2BBC8-A2C3-4885-A481-8C643C0E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8F7A-839D-4F5A-8C53-D83FE910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AA4C3-1B9B-4B00-AE70-6C6205EC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0DF6A-778E-439A-BF7D-B178DDF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65BDD-4ADC-48C1-82D1-7B791761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0711B-2B96-4FB5-92EF-0A59CE14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7255B-BD93-41C5-9824-81FAF637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8E1C2-EB21-44BA-B801-58A3D44C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82512-5905-4F99-B9CC-986FA619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10982-0405-4C5A-A72C-66889567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8FBC3-FE47-4268-A6E9-E8A726E2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FB1FB-46EB-4FAE-B430-4D636448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4B55-F167-441A-8CB6-6B012E98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AAAA4-B024-4707-AC7E-008F010B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0A00C-547B-40A9-A460-439CE5E6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60D47-C1DC-4F6E-A338-35129D9B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A3607-039C-4151-BB7A-C0DC875F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3EA13-DE21-48FC-9B4B-B1537C0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E2CA1-CF4A-47C5-9C81-DFD73B64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F122D-E51E-4836-9003-D21F7DFB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6750F-B9C6-47D3-9A1C-ABADFED1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7DCEC-99CD-46EC-8DCB-372C0C7A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2E900-DB13-42CC-AD2F-382B09EB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257C-11CD-4ED9-88C0-861FB133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E8C0A-E661-4B00-A3C1-7491B5B9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21ECB-2752-4E38-B3F6-06ADA145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9DD22-E522-4D57-BDD7-85BFB1B8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6E379-5E71-4A17-B60B-9C3C47FE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CFC9B-A66E-4877-B747-4547D707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E4238-5BF1-46EC-9A3F-C92B8D13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D128C-4D2D-461C-BB0B-95CAF2EE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5A4CE-E6A2-4E69-9875-A28375B3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E3747-A41B-412F-9808-0194D1EE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614B4-FB4E-47D4-B7C8-6E5A96B5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1719-4249-4120-BAEC-D96AEBFE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8BF00-7694-4EAA-A54B-EDA77074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2C9DDA-D320-4F8D-9A59-C725419E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E49B8-56C2-4F90-8440-4161B268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9AD901-DD82-43EA-84A1-122AC17B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CC021-01BB-4D22-8A91-5C949C2E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FED6D7-B8F3-4ADB-AD80-EE323E63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41092-06B4-44ED-8F7E-AC34BC2B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A36A4-ABE7-4C9C-BBB1-09A1F750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1B279-735E-43FE-B0FC-0875B32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B631B-06F5-48D3-A562-E96C8182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DC9A-89D3-44E5-99B6-A6E0D7A4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B1902-163B-4962-9A76-DE89B783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15080-2BB3-4DAA-A4C2-5BA61D95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9B9A0-F425-4398-BAAD-4A32B0FC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FCA26E-B6C2-491B-89A6-90631D85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00104-D75D-4A78-B122-6E39326C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98A8A-95BF-4DC8-AB13-EAF45BDE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53071-77B0-412B-B720-5AD882CE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12BDD-BBB0-4B0E-8744-04D024E9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2432D8-D408-4DEF-9B9D-3AC0E469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519EB-EB4E-4303-947A-9851151E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F6D-389C-4DD9-8B95-2305C3D1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A8F4-82DA-4715-9DF9-68C04749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700BC-F32B-4E1A-BADF-C1BB6573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9D4F7-10E5-429C-B634-50D44F80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94C3D-3299-4574-8CEA-AE9BA975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180EE-A2F9-4539-B200-DFEC7A51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84160-0BC6-463E-9F6E-42A9762A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A8DF5-620C-4295-886B-EB064882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09F25-BF5C-4294-9455-F31A1615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C7738E-26F1-4482-9515-28ABB023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DA2A3B-136F-45EF-A244-57D336CE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B494F-AD2F-4CBB-9F5D-241E221E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BD7D-9745-41FD-9790-048575D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2F1A9-09C2-4021-A89D-502E71EB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8BDFC2-230E-4B78-80B2-65AE0CFB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89728-9C67-41C5-A105-C0D529F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80AEB-822B-434C-888B-BB41A7DA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F885B-5E4D-4785-BCD4-119DBDD9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C8561-FFFE-46F7-A482-9AA37E9C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3E7B3E-2F5E-4F28-8FB1-2BAC7D71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C1423-899B-46C6-9D38-CE042F92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81512-494D-4E70-8C47-D597FCD1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C618E4-77C9-4F31-97E8-19AB4DB0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6C01-F9FA-42A3-95F7-91040C7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E651C-413E-4AF9-B6C9-3F636E8D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5B24C-1ED3-4194-8241-6800B8A5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CE21BB-C764-41EA-94C3-7F5FD6D6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B99D6-D1C9-4AE4-AA72-F2BF4312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521160-5396-4D89-ADB3-37AE649B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3329E3-5E6D-4DF6-8DD6-EAFB175F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6EDFC-0B7E-43B0-86F9-3C678975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02D96A-D927-4046-93E1-2D6471C3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53659-9EF8-4A36-9B41-E7527236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F942C-B4C0-4359-BE14-075F97AE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ACD6-E6E0-4E75-9DDA-351C5511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EB019-4F1E-46A6-A8DA-C9C7418B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A38331-439F-48A3-970D-3F0F02CD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1E7A1F-53D3-44CB-BC1A-3FEA6726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3EBDE8-20E6-4A87-8F96-F43992C0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5C17C7-F0F1-49D9-AB20-F418B972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CD798-251D-4858-B8F6-9F354F99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1BFE7-CE4F-4D1D-8042-7CB8C96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B964F1-9CB2-435C-9841-FA08F7D6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D031B2-ED0B-425F-8778-F8D16AAF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5DBF60-1F7C-40B5-B083-B01EA65D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F9EB-A021-449F-AC9C-73FF4D5C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8316D-3C45-4766-A22B-F3232DE1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B1F295-3584-48F0-B9CC-294321E6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4C1FA-EC86-41CD-A172-FC24FC63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49B791-78EB-43F3-92E6-0C68A918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37AAC7-A9B7-4127-92DB-21AC07C2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B6770-CEC9-4DB4-8DE5-CEBC2132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4F7153-8A58-48F2-90EA-67C85804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D38214-82C7-4B01-9464-9406BC70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72473-EDFE-43CF-8B4C-D4E49D94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E650F-843A-4B74-813C-CA99E547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4BA8-0535-4633-A72C-7561CF62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445961-C89A-4398-998A-6CADD355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67DCBF-6E30-4F25-8828-3590C027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2A15D5-EAA9-41D3-9926-26BE8206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1160E9-FBB0-41DB-993B-7D8B2BA2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8A8780-39C5-4596-B306-B117BDCC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234D4C-A521-4740-8015-FFB78725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34FFA9-3E99-4879-AA6D-A06A886D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A1725E-44F3-40FE-8371-B2E63867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006B4F-0545-4B68-A132-3B5B082A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37506E-5EE2-4EBE-8FEE-D53C4496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687D-A5E4-48DF-8597-03E71631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4849A9-194F-4A38-AE53-21A7CC5E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6440DD-9DC4-4D1C-96FB-762279FF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4DC61D-F08D-4026-BBCF-98EAFA2D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6DFD80-3452-4ABF-9628-3B892D06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CD4E14-427D-4F78-BE70-B67B1FBC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F9651D-280C-42AA-9BEC-9053AA7A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D28CF7-C751-43B6-9D28-06131FA9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DE74BA-1A9A-4285-957C-99C79150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3FC07D-CF39-4395-8E18-1BF9F862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EA26B4-B557-4AA6-BB9A-663FDA73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38E68-EBCB-43F9-A648-DC5ED104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8402A0-96DB-4F59-8FDD-F585C13B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DC8D9E-29A5-4484-B76F-E9B5B060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6CCF51-0A1E-42B2-83C1-556A999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232688-BD4E-42A1-8B29-58DA969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B8698F-6F0A-4EB6-8D51-A4C573E4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47E8F6-7F8E-4B01-B186-508198AD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37EBE9-32C9-4801-ADBD-D928D0B3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28DACC-B19E-439F-BC1B-3FD218F7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134F82-3B65-49F8-ADA0-29A0EE1D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52384E-4251-4CF9-82B7-E1BED190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9362-D258-49BF-BCF8-8505781C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03E716-A5C4-4009-8ED1-6CEC7BEF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C00901-EAAF-463A-944A-C42D0D7E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9AB34F-86CB-4E88-8377-7E47ECE7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1D1A6F-7931-4442-B0D8-F805582C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FF6706-3895-4769-93DD-71F70823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779841-3CC7-4731-9C43-902B9585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D6CDE0-46FE-4A15-B5E3-89D2F5A4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5363EA-C1FF-4383-8DA1-3FD575C0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394671-ECBD-4522-B3C7-816585E2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3DDB-82E3-48B5-960A-62F064D6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16E-6F4A-4A92-99D1-1271ADB0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10E0-EACC-404F-A1A0-A0FD928F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0086-04D5-4D0B-B5F9-7BE77824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C4B37-1919-468D-A6E4-2ED0D666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09D5-031F-4660-BD85-155CE6EA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7498-281A-4754-883D-F8579079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D0394-41A3-4D03-9357-430D324D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817A-326D-441C-8844-F7A9C30C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5C6C-A9F4-4A4B-A38D-46AB94D9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D8C2B-768F-428B-9882-2F366880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36DB5-E097-4AEA-9B4D-B84719DD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78D-8C5D-4088-8EDB-7B3D8632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EC0F-6607-422D-99F9-1EEDF289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B122-83CA-4236-87D7-15E988CA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6544D-350A-4024-8E78-E0A503D9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4BB10-4964-495B-80D7-C53D018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9B98B-57C6-46EB-BA86-C498B1CD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89B27-E5B5-41D5-B31C-5D556736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88113-DAC1-484F-9B2D-C25433FE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DF49F-5235-4E38-8ACD-3BF35ABF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30AB-94E5-4822-83C4-A57230A8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E2BB6-FBF9-4CB6-A13D-CF37B189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F07-1DF8-4BA9-B9D7-1CD72DA6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90CF-59A4-4BA5-B05E-E6BB333A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90F0C-F099-4DB5-B11B-751B6601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A4FE7-1512-47EB-8651-96651ABF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DA4EA-E963-4755-946B-8DBE51AF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5546E-927C-4BE4-923F-707D8FB7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C0DD-D98D-4474-A96C-6FBFFC65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D7780-9CB5-46DE-A8D9-AF1DDC59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F8F6-33D0-463B-9044-57B5DA58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79516-9288-4868-A7E3-E9BBB347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330E5-5617-41DB-8D3E-E69ED60E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B09-084F-46AE-AB89-6751DB06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76DCE-59B2-4DB7-9E8A-FA739385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1FD3A-EE8A-466A-9103-D13C650A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CB3DB-E61A-493E-93F2-6BC512B1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429A3-466C-4689-AA58-423E7B97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EFBD-B024-49B8-9F18-4E23A83D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98FA3-5038-4916-BEEB-0B1D34CF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3DB94-4CCC-4BEA-8165-58B739AF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0653-7534-4C83-94F3-67BAC969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53D30-30B4-4AA8-B071-3ABCF4D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97996-12B3-4BBA-948E-DA9E99FD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A80-3829-4A58-99A2-45AA526E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6368-2CAA-41F0-90E5-9682F06D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73F97-C711-4153-9356-08156230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9D216-C10D-441E-9413-B89AE7A9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01722-277D-4953-8D40-454702E9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5D925-6BB1-4D22-8DCC-CCAF862C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79E6A-F10D-49A6-A722-A8F3201D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CB8F0-21D1-4E85-BB35-C5B9AF3E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7AE67-97DB-4E05-90A0-09D6FE60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AF01B-49AB-462A-88CF-F74E6736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39EF3-CB8A-415F-A4F6-F9AA9CFB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8A8-BDA0-4C1C-B0D6-8328DEB7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C327B-790E-4A48-B249-5EB5DED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D5309-B83A-4186-8E0A-3164CF3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3BA84-4392-4B3E-ADB6-0DCADAAF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4D68C-C7E4-4BD7-9504-8C52DB5E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7BB3A-4A51-4FE0-AF37-B107D313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D5773-B425-4B23-BA5F-AF00BE27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FADC0-2314-4170-8678-8A95AFB5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6AE9A-DE35-435A-9D3A-925F63D7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9DE5C-CD12-423E-8604-34335B16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CDE5A-2E6D-43C7-9146-5DCF3F2A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2F1-1C8F-493C-A6B2-9D042A6F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15856-3D73-4441-9C12-6152EFAC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299C5-7D13-411E-9DF2-BCD90D30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5D68A-1550-4BFD-87EB-8D9D139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137AA-AF03-48AB-BC43-ADA975D1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58347-5F27-40B5-A663-1A86708A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73A41-04AA-4F5D-BAA6-37D87F55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6477B-5AE5-4644-9862-547AACAE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45328-BFF6-4B12-B4F0-59020343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5F93E-25B7-40E7-9C92-4A979B6F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DB7E7-6D30-4B2C-8A6A-186232D8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B170-89C1-4342-AB8A-55F2536E02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7463-DEAC-432F-988D-06C7F06D90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6882-08D5-4727-8FE1-4F3A205C9B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654B-813B-499D-962B-5B3D24BBAE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6DD1-3C0B-48AC-B4D3-AB102DB56D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41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3511-F2D4-4AAF-BA67-A3E1A93DC69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CDB3-1BCF-49FD-B97C-23ED4F6C800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71CB-F6B6-458C-A138-EA0D15782EF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A270-CF47-46BD-A895-2537F80693B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188D-8379-44DF-98AA-051BF642CA7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B57D-9257-46E4-96CA-BFECB508EDB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E688-9CDD-4AB6-AFC0-FE984677852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9A81-0796-487C-BE5E-696E45E7D1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3A8F-6802-4003-A6D2-ABBA42649E58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4ED2-FB13-441F-B66D-CFC1B096F6A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F9EC-6B4A-4795-9F4E-97A60DB57BE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64D0-A024-4AF9-8A0F-C639A20FA2C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3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4057-90EE-4BCB-89AB-E4A587EC8101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17F9-4738-4199-832A-3EAA8956CA5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4A33-6D82-416D-857D-3633A002B389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6B09-E463-446D-B314-C78B5E031EF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917A-AD18-48D9-AF86-AD8F4ABD267D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CDE6-0624-47F8-9B73-9922FFBE1E1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83DA-16C2-40A8-913B-B64975CD5626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3FE8-53EE-4401-A457-133ED7665E9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FF61-6801-4932-BE73-C94A1141118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5588-DFDA-4906-8CC7-E33B45D8350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2BB1-5476-4755-95DA-CF0B58B8556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9DE5-D17D-4D90-B859-9DF62470AFC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9703-8D18-4080-BB7B-CD7018C3CE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C20D-408C-4EB8-834D-6F5916D3FA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E130-39AE-4E3B-BA20-C5BB3C1B3C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1B21-CD40-40F7-A97D-1F046025D1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D42B-9A25-4D5B-A702-1815009898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9B05-7C6E-43AF-AB71-8A743CF43E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4142-D9C7-4FF7-B961-106F6148DF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&#26032;&#24314;&#25991;&#20214;&#22841;\&#12298;&#20599;&#21507;&#20154;&#21442;&#26524;&#12299;&#29255;&#27573;&#65288;&#27969;&#30021;&#65289;_960x640_2.00M_h.264.mp4" TargetMode="External"/><Relationship Id="rId3" Type="http://schemas.openxmlformats.org/officeDocument/2006/relationships/hyperlink" Target="&#26032;&#24314;&#25991;&#20214;&#22841;\&#12298;&#20599;&#21507;&#20154;&#21442;&#26524;&#12299;&#29255;&#27573;&#65288;&#27969;&#30021;&#65289;_960x640_2.00M_h.264.mp4" TargetMode="External"/><Relationship Id="rId4" Type="http://schemas.openxmlformats.org/officeDocument/2006/relationships/hyperlink" Target="&#26032;&#24314;&#25991;&#20214;&#22841;\&#12298;&#20599;&#21507;&#20154;&#21442;&#26524;&#12299;&#29255;&#27573;&#65288;&#27969;&#30021;&#65289;_960x640_2.00M_h.264.mp4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265,3,&#24187;&#28783;&#29255; 3" TargetMode="External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2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2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2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2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62465" descr="人生果1"/>
          <p:cNvPicPr/>
          <p:nvPr/>
        </p:nvPicPr>
        <p:blipFill>
          <a:blip r:embed="rId1"/>
          <a:srcRect l="0" t="0" r="-257" b="8509"/>
          <a:stretch/>
        </p:blipFill>
        <p:spPr>
          <a:xfrm>
            <a:off x="0" y="3276720"/>
            <a:ext cx="4800600" cy="327636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62467"/>
          <p:cNvSpPr/>
          <p:nvPr/>
        </p:nvSpPr>
        <p:spPr>
          <a:xfrm>
            <a:off x="4788000" y="34290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生果（人参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62468"/>
          <p:cNvSpPr/>
          <p:nvPr/>
        </p:nvSpPr>
        <p:spPr>
          <a:xfrm>
            <a:off x="4932360" y="4076640"/>
            <a:ext cx="4211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所说的人参果是一种原产于国武威地区的水果，富含蛋白质、维生素与矿物元素，具有保健功效。我国四大名著之一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Times New Roman"/>
                <a:ea typeface="宋体"/>
                <a:hlinkClick r:id="rId2"/>
              </a:rPr>
              <a:t>《</a:t>
            </a:r>
            <a:r>
              <a:rPr b="0" lang="zh-CN" sz="2400" spc="-1" strike="noStrike" u="sng">
                <a:solidFill>
                  <a:srgbClr val="6767ff"/>
                </a:solidFill>
                <a:uFillTx/>
                <a:latin typeface="Times New Roman"/>
                <a:ea typeface="宋体"/>
                <a:hlinkClick r:id="rId3"/>
              </a:rPr>
              <a:t>西游记</a:t>
            </a:r>
            <a:r>
              <a:rPr b="0" lang="en-US" sz="2400" spc="-1" strike="noStrike" u="sng">
                <a:solidFill>
                  <a:srgbClr val="6767ff"/>
                </a:solidFill>
                <a:uFillTx/>
                <a:latin typeface="Times New Roman"/>
                <a:ea typeface="宋体"/>
                <a:hlinkClick r:id="rId4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提及此果并加入了神话色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62470" descr="df630c76gx6CxdvjPGl05&amp;690"/>
          <p:cNvPicPr/>
          <p:nvPr/>
        </p:nvPicPr>
        <p:blipFill>
          <a:blip r:embed="rId5"/>
          <a:stretch/>
        </p:blipFill>
        <p:spPr>
          <a:xfrm>
            <a:off x="228600" y="380880"/>
            <a:ext cx="86868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152577" descr="16813359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543720"/>
          </a:xfrm>
          <a:prstGeom prst="rect">
            <a:avLst/>
          </a:prstGeom>
          <a:ln w="0">
            <a:noFill/>
          </a:ln>
        </p:spPr>
      </p:pic>
      <p:sp>
        <p:nvSpPr>
          <p:cNvPr id="1051" name="文本框 152578"/>
          <p:cNvSpPr/>
          <p:nvPr/>
        </p:nvSpPr>
        <p:spPr>
          <a:xfrm>
            <a:off x="395280" y="48895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流光溢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152579"/>
          <p:cNvSpPr/>
          <p:nvPr/>
        </p:nvSpPr>
        <p:spPr>
          <a:xfrm>
            <a:off x="1403280" y="486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　　　流动的光影，满溢的色彩。形容色彩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文本框 152580"/>
          <p:cNvSpPr/>
          <p:nvPr/>
        </p:nvSpPr>
        <p:spPr>
          <a:xfrm>
            <a:off x="395280" y="76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眼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文本框 152581"/>
          <p:cNvSpPr/>
          <p:nvPr/>
        </p:nvSpPr>
        <p:spPr>
          <a:xfrm>
            <a:off x="1690560" y="76500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看得到而得不到，令人羡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文本框 152582"/>
          <p:cNvSpPr/>
          <p:nvPr/>
        </p:nvSpPr>
        <p:spPr>
          <a:xfrm>
            <a:off x="395280" y="2565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津津有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152583"/>
          <p:cNvSpPr/>
          <p:nvPr/>
        </p:nvSpPr>
        <p:spPr>
          <a:xfrm>
            <a:off x="1403280" y="26384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　　　指吃得很有味道或谈得很有兴趣。文中指看画片时非常有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152584"/>
          <p:cNvSpPr/>
          <p:nvPr/>
        </p:nvSpPr>
        <p:spPr>
          <a:xfrm>
            <a:off x="395280" y="134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152585"/>
          <p:cNvSpPr/>
          <p:nvPr/>
        </p:nvSpPr>
        <p:spPr>
          <a:xfrm>
            <a:off x="1692360" y="1341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一首。阙，量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152586"/>
          <p:cNvSpPr/>
          <p:nvPr/>
        </p:nvSpPr>
        <p:spPr>
          <a:xfrm>
            <a:off x="395280" y="1924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饱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152587"/>
          <p:cNvSpPr/>
          <p:nvPr/>
        </p:nvSpPr>
        <p:spPr>
          <a:xfrm>
            <a:off x="1692360" y="19242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尽情地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152588"/>
          <p:cNvSpPr/>
          <p:nvPr/>
        </p:nvSpPr>
        <p:spPr>
          <a:xfrm>
            <a:off x="396720" y="371808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如醉如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152589"/>
          <p:cNvSpPr/>
          <p:nvPr/>
        </p:nvSpPr>
        <p:spPr>
          <a:xfrm>
            <a:off x="1187280" y="38037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形容神态失常，失去自制。文中指作者读书读到入迷的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2" name="wind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153601" descr="168133592"/>
          <p:cNvPicPr/>
          <p:nvPr/>
        </p:nvPicPr>
        <p:blipFill>
          <a:blip r:embed="rId1"/>
          <a:stretch/>
        </p:blipFill>
        <p:spPr>
          <a:xfrm>
            <a:off x="179280" y="40464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1064" name="文本框 153602"/>
          <p:cNvSpPr/>
          <p:nvPr/>
        </p:nvSpPr>
        <p:spPr>
          <a:xfrm>
            <a:off x="39528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悲欢离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153603"/>
          <p:cNvSpPr/>
          <p:nvPr/>
        </p:nvSpPr>
        <p:spPr>
          <a:xfrm>
            <a:off x="1332000" y="2708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　　　悲伤、欢乐、离散、聚会。泛指生活中经历的各种境遇和由此产生的各种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153604"/>
          <p:cNvSpPr/>
          <p:nvPr/>
        </p:nvSpPr>
        <p:spPr>
          <a:xfrm>
            <a:off x="395280" y="620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浮想联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153605"/>
          <p:cNvSpPr/>
          <p:nvPr/>
        </p:nvSpPr>
        <p:spPr>
          <a:xfrm>
            <a:off x="1403280" y="693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浮想：飘浮不定的想象；联翩：鸟飞的样子，比喻连续不断。指许许多多的想象不断涌现出来。文中指作者读书进入意境，产生联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153606"/>
          <p:cNvSpPr/>
          <p:nvPr/>
        </p:nvSpPr>
        <p:spPr>
          <a:xfrm>
            <a:off x="395280" y="522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牵肠挂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153607"/>
          <p:cNvSpPr/>
          <p:nvPr/>
        </p:nvSpPr>
        <p:spPr>
          <a:xfrm>
            <a:off x="1332000" y="5291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　　　 牵：拉。形容十分惦念，放心不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文本框 153608"/>
          <p:cNvSpPr/>
          <p:nvPr/>
        </p:nvSpPr>
        <p:spPr>
          <a:xfrm>
            <a:off x="324000" y="41497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如饥似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153609"/>
          <p:cNvSpPr/>
          <p:nvPr/>
        </p:nvSpPr>
        <p:spPr>
          <a:xfrm>
            <a:off x="1405080" y="421956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形容要求很迫切，好象饿了急着要吃饭，渴了急着要喝水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wind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154625" descr="168133592"/>
          <p:cNvPicPr/>
          <p:nvPr/>
        </p:nvPicPr>
        <p:blipFill>
          <a:blip r:embed="rId1"/>
          <a:stretch/>
        </p:blipFill>
        <p:spPr>
          <a:xfrm>
            <a:off x="179280" y="40464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1073" name="文本框 154626"/>
          <p:cNvSpPr/>
          <p:nvPr/>
        </p:nvSpPr>
        <p:spPr>
          <a:xfrm>
            <a:off x="395280" y="29383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千篇一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154627"/>
          <p:cNvSpPr/>
          <p:nvPr/>
        </p:nvSpPr>
        <p:spPr>
          <a:xfrm>
            <a:off x="1332000" y="30099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　　　 一千篇文章都一个样。文中指文章公式化，非常机械、乏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154628"/>
          <p:cNvSpPr/>
          <p:nvPr/>
        </p:nvSpPr>
        <p:spPr>
          <a:xfrm>
            <a:off x="395280" y="22827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黯然神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154629"/>
          <p:cNvSpPr/>
          <p:nvPr/>
        </p:nvSpPr>
        <p:spPr>
          <a:xfrm>
            <a:off x="2484360" y="23446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神情不愉快，无精打采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154630"/>
          <p:cNvSpPr/>
          <p:nvPr/>
        </p:nvSpPr>
        <p:spPr>
          <a:xfrm>
            <a:off x="395280" y="40910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大显身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154631"/>
          <p:cNvSpPr/>
          <p:nvPr/>
        </p:nvSpPr>
        <p:spPr>
          <a:xfrm>
            <a:off x="1332000" y="40910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　　　 显：表露，表现；身手：指本领。充分显示出本领和才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154632"/>
          <p:cNvSpPr/>
          <p:nvPr/>
        </p:nvSpPr>
        <p:spPr>
          <a:xfrm>
            <a:off x="396720" y="51577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心安理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154633"/>
          <p:cNvSpPr/>
          <p:nvPr/>
        </p:nvSpPr>
        <p:spPr>
          <a:xfrm>
            <a:off x="1405080" y="5229360"/>
            <a:ext cx="60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适合。自以为做的事情合乎道理，心里很坦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154634"/>
          <p:cNvSpPr/>
          <p:nvPr/>
        </p:nvSpPr>
        <p:spPr>
          <a:xfrm>
            <a:off x="396720" y="1197000"/>
            <a:ext cx="26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不言而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154635"/>
          <p:cNvSpPr/>
          <p:nvPr/>
        </p:nvSpPr>
        <p:spPr>
          <a:xfrm>
            <a:off x="1187280" y="12826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喻：了解，明白。不用说话就能明白。形容道理很明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154636"/>
          <p:cNvSpPr/>
          <p:nvPr/>
        </p:nvSpPr>
        <p:spPr>
          <a:xfrm>
            <a:off x="395280" y="6271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天长日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154637"/>
          <p:cNvSpPr/>
          <p:nvPr/>
        </p:nvSpPr>
        <p:spPr>
          <a:xfrm>
            <a:off x="2627280" y="6890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形容长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wind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矩形 166913"/>
          <p:cNvSpPr txBox="1"/>
          <p:nvPr/>
        </p:nvSpPr>
        <p:spPr>
          <a:xfrm>
            <a:off x="1425600" y="914400"/>
            <a:ext cx="6411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给红字、词选择正确的解释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6" name="矩形 166914"/>
          <p:cNvSpPr txBox="1"/>
          <p:nvPr/>
        </p:nvSpPr>
        <p:spPr>
          <a:xfrm>
            <a:off x="1603440" y="2057400"/>
            <a:ext cx="1603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不言而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7" name="矩形 166915"/>
          <p:cNvSpPr txBox="1"/>
          <p:nvPr/>
        </p:nvSpPr>
        <p:spPr>
          <a:xfrm>
            <a:off x="3325680" y="2057400"/>
            <a:ext cx="355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喻</a:t>
            </a:r>
            <a:endParaRPr b="0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8" name="矩形 166916"/>
          <p:cNvSpPr txBox="1"/>
          <p:nvPr/>
        </p:nvSpPr>
        <p:spPr>
          <a:xfrm>
            <a:off x="4630680" y="2133720"/>
            <a:ext cx="320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比喻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明白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9" name="矩形 166917"/>
          <p:cNvSpPr txBox="1"/>
          <p:nvPr/>
        </p:nvSpPr>
        <p:spPr>
          <a:xfrm>
            <a:off x="1603440" y="2895480"/>
            <a:ext cx="207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呕心  血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0" name="矩形 166918"/>
          <p:cNvSpPr txBox="1"/>
          <p:nvPr/>
        </p:nvSpPr>
        <p:spPr>
          <a:xfrm>
            <a:off x="2968560" y="2895480"/>
            <a:ext cx="357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沥</a:t>
            </a:r>
            <a:endParaRPr b="0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1" name="矩形 166919"/>
          <p:cNvSpPr txBox="1"/>
          <p:nvPr/>
        </p:nvSpPr>
        <p:spPr>
          <a:xfrm>
            <a:off x="4630680" y="2971800"/>
            <a:ext cx="314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滴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过滤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2" name="矩形 166920"/>
          <p:cNvSpPr txBox="1"/>
          <p:nvPr/>
        </p:nvSpPr>
        <p:spPr>
          <a:xfrm>
            <a:off x="1662120" y="3657600"/>
            <a:ext cx="196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流光  彩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3" name="矩形 166921"/>
          <p:cNvSpPr txBox="1"/>
          <p:nvPr/>
        </p:nvSpPr>
        <p:spPr>
          <a:xfrm>
            <a:off x="2909880" y="3657600"/>
            <a:ext cx="355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溢</a:t>
            </a:r>
            <a:endParaRPr b="0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4" name="矩形 166922"/>
          <p:cNvSpPr txBox="1"/>
          <p:nvPr/>
        </p:nvSpPr>
        <p:spPr>
          <a:xfrm>
            <a:off x="4630680" y="3657600"/>
            <a:ext cx="4216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过分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充满而流出来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5" name="矩形 166923"/>
          <p:cNvSpPr txBox="1"/>
          <p:nvPr/>
        </p:nvSpPr>
        <p:spPr>
          <a:xfrm>
            <a:off x="1662120" y="4419720"/>
            <a:ext cx="196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    吞枣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6" name="矩形 166924"/>
          <p:cNvSpPr txBox="1"/>
          <p:nvPr/>
        </p:nvSpPr>
        <p:spPr>
          <a:xfrm>
            <a:off x="2136600" y="4419720"/>
            <a:ext cx="712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囫囵</a:t>
            </a:r>
            <a:endParaRPr b="0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7" name="矩形 166925"/>
          <p:cNvSpPr txBox="1"/>
          <p:nvPr/>
        </p:nvSpPr>
        <p:spPr>
          <a:xfrm>
            <a:off x="4630680" y="4419720"/>
            <a:ext cx="4513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整个的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狼吞虎咽的样子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8" name="矩形 166926"/>
          <p:cNvSpPr txBox="1"/>
          <p:nvPr/>
        </p:nvSpPr>
        <p:spPr>
          <a:xfrm>
            <a:off x="1722600" y="5181480"/>
            <a:ext cx="106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5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大显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9" name="矩形 166927"/>
          <p:cNvSpPr txBox="1"/>
          <p:nvPr/>
        </p:nvSpPr>
        <p:spPr>
          <a:xfrm>
            <a:off x="2909880" y="5181480"/>
            <a:ext cx="712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身手</a:t>
            </a:r>
            <a:endParaRPr b="0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0" name="矩形 166928"/>
          <p:cNvSpPr txBox="1"/>
          <p:nvPr/>
        </p:nvSpPr>
        <p:spPr>
          <a:xfrm>
            <a:off x="4630680" y="5181480"/>
            <a:ext cx="320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本领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身和手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Arial"/>
                <a:ea typeface="黑体"/>
              </a:rPr>
              <a:t>给课文分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段（第一自然段）：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开篇点题，总写书是人类文明的“长生果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段（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--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）：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写我童年快乐的读书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段（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--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）：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写课外书籍给了“我”许多营养，特别是对“我”的作文有很大的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wind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自读课文，思考问题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我的“长生果”指的是什么？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长生果指吃了可以使人长生不老的果子，这里指营养极其丰富。作者将书比喻为“长生果”，意思是书是人类的精神食量，充分表达了书与人类发展的关系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作者写了童年读书、作文的哪几件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图片 21507" descr="dushunvhai"/>
          <p:cNvPicPr/>
          <p:nvPr/>
        </p:nvPicPr>
        <p:blipFill>
          <a:blip r:embed="rId1"/>
          <a:stretch/>
        </p:blipFill>
        <p:spPr>
          <a:xfrm>
            <a:off x="228600" y="152280"/>
            <a:ext cx="1079640" cy="1347840"/>
          </a:xfrm>
          <a:prstGeom prst="rect">
            <a:avLst/>
          </a:prstGeom>
          <a:ln w="0">
            <a:noFill/>
          </a:ln>
        </p:spPr>
      </p:pic>
      <p:pic>
        <p:nvPicPr>
          <p:cNvPr id="1106" name="图片 21508" descr="48_66453_ea4af53165747cc"/>
          <p:cNvPicPr/>
          <p:nvPr/>
        </p:nvPicPr>
        <p:blipFill>
          <a:blip r:embed="rId2"/>
          <a:stretch/>
        </p:blipFill>
        <p:spPr>
          <a:xfrm>
            <a:off x="7620120" y="380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WordArt 2"/>
          <p:cNvSpPr txBox="1"/>
          <p:nvPr/>
        </p:nvSpPr>
        <p:spPr>
          <a:xfrm>
            <a:off x="1287360" y="3286080"/>
            <a:ext cx="785664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速读课文，把作者在什么时间，什么地点，读了哪些书填写在下面的表格里。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8" name="WordArt 3"/>
          <p:cNvSpPr txBox="1"/>
          <p:nvPr/>
        </p:nvSpPr>
        <p:spPr>
          <a:xfrm>
            <a:off x="1733400" y="857160"/>
            <a:ext cx="69580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ff"/>
                </a:solidFill>
                <a:latin typeface="黑体"/>
              </a:rPr>
              <a:t>？</a:t>
            </a:r>
            <a:endParaRPr b="0" lang="en-US" sz="1800" spc="-1" strike="noStrike">
              <a:ln w="0">
                <a:noFill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1109" name="Text Box 5"/>
          <p:cNvSpPr/>
          <p:nvPr/>
        </p:nvSpPr>
        <p:spPr>
          <a:xfrm>
            <a:off x="355680" y="685800"/>
            <a:ext cx="831600" cy="5142240"/>
          </a:xfrm>
          <a:prstGeom prst="rect">
            <a:avLst/>
          </a:prstGeom>
          <a:solidFill>
            <a:srgbClr val="00b05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5"/>
          <p:cNvSpPr/>
          <p:nvPr/>
        </p:nvSpPr>
        <p:spPr>
          <a:xfrm>
            <a:off x="1343160" y="1858680"/>
            <a:ext cx="78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1" name=""/>
          <p:cNvGraphicFramePr/>
          <p:nvPr/>
        </p:nvGraphicFramePr>
        <p:xfrm>
          <a:off x="457200" y="228600"/>
          <a:ext cx="8305920" cy="594360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2057400"/>
                <a:gridCol w="2362320"/>
              </a:tblGrid>
              <a:tr h="7329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  书  生  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 书 情 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 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地    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    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2" name=""/>
          <p:cNvGraphicFramePr/>
          <p:nvPr/>
        </p:nvGraphicFramePr>
        <p:xfrm>
          <a:off x="457200" y="304920"/>
          <a:ext cx="8305920" cy="6715080"/>
        </p:xfrm>
        <a:graphic>
          <a:graphicData uri="http://schemas.openxmlformats.org/drawingml/2006/table">
            <a:tbl>
              <a:tblPr/>
              <a:tblGrid>
                <a:gridCol w="1828800"/>
                <a:gridCol w="2057400"/>
                <a:gridCol w="2057400"/>
                <a:gridCol w="2362320"/>
              </a:tblGrid>
              <a:tr h="7131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  书  生  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 书 情 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 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地    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    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上学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街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画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饱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上    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学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连环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痴迷  迷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上    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镇上文化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文艺书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囫囵吞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牵肠挂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上初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学校图书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读大部头小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如痴如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文本框 75777"/>
          <p:cNvSpPr/>
          <p:nvPr/>
        </p:nvSpPr>
        <p:spPr>
          <a:xfrm>
            <a:off x="517680" y="249120"/>
            <a:ext cx="550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380880" y="380880"/>
          <a:ext cx="8305920" cy="6210360"/>
        </p:xfrm>
        <a:graphic>
          <a:graphicData uri="http://schemas.openxmlformats.org/drawingml/2006/table">
            <a:tbl>
              <a:tblPr/>
              <a:tblGrid>
                <a:gridCol w="2131920"/>
                <a:gridCol w="3143520"/>
                <a:gridCol w="3030480"/>
              </a:tblGrid>
              <a:tr h="68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写作事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阅读所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得到报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阅读功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扩展想象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阅读效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秋天来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切身体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构思要别出心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图片 6349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3" name="矩形 63489"/>
          <p:cNvSpPr txBox="1"/>
          <p:nvPr/>
        </p:nvSpPr>
        <p:spPr>
          <a:xfrm>
            <a:off x="1752480" y="1219320"/>
            <a:ext cx="5715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我的长生果</a:t>
            </a:r>
            <a:endParaRPr b="1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004" name="图片 63490" descr="gezi"/>
          <p:cNvPicPr/>
          <p:nvPr/>
        </p:nvPicPr>
        <p:blipFill>
          <a:blip r:embed="rId2"/>
          <a:stretch/>
        </p:blipFill>
        <p:spPr>
          <a:xfrm>
            <a:off x="304920" y="9144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005" name="图片 63491" descr="gezi"/>
          <p:cNvPicPr/>
          <p:nvPr/>
        </p:nvPicPr>
        <p:blipFill>
          <a:blip r:embed="rId3"/>
          <a:stretch/>
        </p:blipFill>
        <p:spPr>
          <a:xfrm>
            <a:off x="1219320" y="121932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文本框 76801"/>
          <p:cNvSpPr/>
          <p:nvPr/>
        </p:nvSpPr>
        <p:spPr>
          <a:xfrm>
            <a:off x="517680" y="249120"/>
            <a:ext cx="550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304920" y="0"/>
          <a:ext cx="8610480" cy="6494400"/>
        </p:xfrm>
        <a:graphic>
          <a:graphicData uri="http://schemas.openxmlformats.org/drawingml/2006/table">
            <a:tbl>
              <a:tblPr/>
              <a:tblGrid>
                <a:gridCol w="2211480"/>
                <a:gridCol w="3257280"/>
                <a:gridCol w="3141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写作事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阅读所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得到报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养成良好习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阅读功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扩展想象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增强理解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阅读效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秋天来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一件不愉快的往事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切身体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构思要别出心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要写真情实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文本框 145409"/>
          <p:cNvSpPr/>
          <p:nvPr/>
        </p:nvSpPr>
        <p:spPr>
          <a:xfrm>
            <a:off x="228600" y="10666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宋体"/>
              </a:rPr>
              <a:t>作者写了少年时代读书和写作的哪几件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145410"/>
          <p:cNvSpPr/>
          <p:nvPr/>
        </p:nvSpPr>
        <p:spPr>
          <a:xfrm>
            <a:off x="1066680" y="1828800"/>
            <a:ext cx="3733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看“香烟人”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小画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看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连环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文化站读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文艺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图书馆读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中外名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  <a:ea typeface="宋体"/>
              </a:rPr>
              <a:t>两次写作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145411"/>
          <p:cNvSpPr/>
          <p:nvPr/>
        </p:nvSpPr>
        <p:spPr>
          <a:xfrm>
            <a:off x="5410080" y="1752480"/>
            <a:ext cx="274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（津津有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（如醉如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（牵肠挂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（如醉如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（大显身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63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9d8ec"/>
                </a:solidFill>
                <a:latin typeface="Arial"/>
              </a:rPr>
              <a:t>细读课文，深入理解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矩形 156673"/>
          <p:cNvSpPr txBox="1"/>
          <p:nvPr/>
        </p:nvSpPr>
        <p:spPr>
          <a:xfrm>
            <a:off x="3276720" y="836640"/>
            <a:ext cx="2743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回忆读书生活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22" name="图片 156674" descr="香烟画片"/>
          <p:cNvPicPr/>
          <p:nvPr/>
        </p:nvPicPr>
        <p:blipFill>
          <a:blip r:embed="rId1"/>
          <a:stretch/>
        </p:blipFill>
        <p:spPr>
          <a:xfrm>
            <a:off x="1547640" y="1628640"/>
            <a:ext cx="6480360" cy="4091040"/>
          </a:xfrm>
          <a:prstGeom prst="rect">
            <a:avLst/>
          </a:prstGeom>
          <a:ln w="0">
            <a:noFill/>
          </a:ln>
        </p:spPr>
      </p:pic>
      <p:sp>
        <p:nvSpPr>
          <p:cNvPr id="1123" name="文本框 156675"/>
          <p:cNvSpPr/>
          <p:nvPr/>
        </p:nvSpPr>
        <p:spPr>
          <a:xfrm>
            <a:off x="2050920" y="57340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华文中宋"/>
              </a:rPr>
              <a:t>我的最早读物：</a:t>
            </a:r>
            <a:r>
              <a:rPr b="1" lang="zh-CN" sz="2800" spc="-1" strike="noStrike">
                <a:solidFill>
                  <a:srgbClr val="d9d8ec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华文中宋"/>
              </a:rPr>
              <a:t>香烟人</a:t>
            </a:r>
            <a:r>
              <a:rPr b="1" lang="zh-CN" sz="2800" spc="-1" strike="noStrike">
                <a:solidFill>
                  <a:srgbClr val="d9d8ec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华文中宋"/>
              </a:rPr>
              <a:t>画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wind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57697" descr="连环画"/>
          <p:cNvPicPr/>
          <p:nvPr/>
        </p:nvPicPr>
        <p:blipFill>
          <a:blip r:embed="rId1"/>
          <a:stretch/>
        </p:blipFill>
        <p:spPr>
          <a:xfrm>
            <a:off x="971640" y="1052640"/>
            <a:ext cx="3529080" cy="454500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157698" descr="连环画1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4535280"/>
          </a:xfrm>
          <a:prstGeom prst="rect">
            <a:avLst/>
          </a:prstGeom>
          <a:ln w="0">
            <a:noFill/>
          </a:ln>
        </p:spPr>
      </p:pic>
      <p:sp>
        <p:nvSpPr>
          <p:cNvPr id="1126" name="文本框 157699"/>
          <p:cNvSpPr/>
          <p:nvPr/>
        </p:nvSpPr>
        <p:spPr>
          <a:xfrm>
            <a:off x="2916360" y="5661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华文中宋"/>
              </a:rPr>
              <a:t>上学后：连环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3" name="wind.wav"/>
      </p:stSnd>
    </p:sndAc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58721" descr="文艺书籍"/>
          <p:cNvPicPr/>
          <p:nvPr/>
        </p:nvPicPr>
        <p:blipFill>
          <a:blip r:embed="rId1"/>
          <a:stretch/>
        </p:blipFill>
        <p:spPr>
          <a:xfrm>
            <a:off x="4908600" y="1125360"/>
            <a:ext cx="2736720" cy="4104000"/>
          </a:xfrm>
          <a:prstGeom prst="rect">
            <a:avLst/>
          </a:prstGeom>
          <a:ln w="0">
            <a:noFill/>
          </a:ln>
        </p:spPr>
      </p:pic>
      <p:sp>
        <p:nvSpPr>
          <p:cNvPr id="1128" name="文本框 158722"/>
          <p:cNvSpPr/>
          <p:nvPr/>
        </p:nvSpPr>
        <p:spPr>
          <a:xfrm>
            <a:off x="3419640" y="5589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华文中宋"/>
              </a:rPr>
              <a:t>书店：文艺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图片 158723" descr="平凡的世界"/>
          <p:cNvPicPr/>
          <p:nvPr/>
        </p:nvPicPr>
        <p:blipFill>
          <a:blip r:embed="rId2"/>
          <a:stretch/>
        </p:blipFill>
        <p:spPr>
          <a:xfrm>
            <a:off x="1476360" y="1125360"/>
            <a:ext cx="2975040" cy="4105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59745" descr="茶花女"/>
          <p:cNvPicPr/>
          <p:nvPr/>
        </p:nvPicPr>
        <p:blipFill>
          <a:blip r:embed="rId1"/>
          <a:stretch/>
        </p:blipFill>
        <p:spPr>
          <a:xfrm>
            <a:off x="1619280" y="1341360"/>
            <a:ext cx="2797200" cy="4176720"/>
          </a:xfrm>
          <a:prstGeom prst="rect">
            <a:avLst/>
          </a:prstGeom>
          <a:ln w="0">
            <a:noFill/>
          </a:ln>
        </p:spPr>
      </p:pic>
      <p:pic>
        <p:nvPicPr>
          <p:cNvPr id="1131" name="图片 159746" descr="呼啸山庄"/>
          <p:cNvPicPr/>
          <p:nvPr/>
        </p:nvPicPr>
        <p:blipFill>
          <a:blip r:embed="rId2"/>
          <a:stretch/>
        </p:blipFill>
        <p:spPr>
          <a:xfrm>
            <a:off x="5219640" y="1557360"/>
            <a:ext cx="2509920" cy="3816360"/>
          </a:xfrm>
          <a:prstGeom prst="rect">
            <a:avLst/>
          </a:prstGeom>
          <a:ln w="0">
            <a:noFill/>
          </a:ln>
        </p:spPr>
      </p:pic>
      <p:sp>
        <p:nvSpPr>
          <p:cNvPr id="1132" name="文本框 159747"/>
          <p:cNvSpPr/>
          <p:nvPr/>
        </p:nvSpPr>
        <p:spPr>
          <a:xfrm>
            <a:off x="2627280" y="5661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华文中宋"/>
              </a:rPr>
              <a:t>图书馆：中外名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5"/>
          <p:cNvSpPr/>
          <p:nvPr/>
        </p:nvSpPr>
        <p:spPr>
          <a:xfrm>
            <a:off x="1398600" y="285840"/>
            <a:ext cx="732960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读书对作者产生了什么影响？你是从哪里看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55320" y="685800"/>
            <a:ext cx="950760" cy="4114800"/>
          </a:xfrm>
          <a:prstGeom prst="rect">
            <a:avLst/>
          </a:prstGeom>
          <a:solidFill>
            <a:srgbClr val="00b050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组探究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"/>
          <p:cNvSpPr/>
          <p:nvPr/>
        </p:nvSpPr>
        <p:spPr>
          <a:xfrm>
            <a:off x="1231920" y="142884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、越读书越爱读书，对读书的渴望越来越强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、读书使“我”对文学产生了越来越浓厚的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(3)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、扩展了“我”的想象力，提高了“我”的作文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4"/>
          <p:cNvSpPr/>
          <p:nvPr/>
        </p:nvSpPr>
        <p:spPr>
          <a:xfrm>
            <a:off x="1231920" y="3000240"/>
            <a:ext cx="48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作文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秋天来了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与众不同（新颖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一件不愉快的往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真情感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6297480" y="3071880"/>
            <a:ext cx="20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长生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滋养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6"/>
          <p:cNvSpPr/>
          <p:nvPr/>
        </p:nvSpPr>
        <p:spPr>
          <a:xfrm>
            <a:off x="5740560" y="3143160"/>
            <a:ext cx="6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宋体"/>
                <a:ea typeface="宋体"/>
              </a:rPr>
              <a:t>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7"/>
          <p:cNvSpPr/>
          <p:nvPr/>
        </p:nvSpPr>
        <p:spPr>
          <a:xfrm>
            <a:off x="1398600" y="4500720"/>
            <a:ext cx="66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是怎样读这些书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9"/>
          <p:cNvSpPr/>
          <p:nvPr/>
        </p:nvSpPr>
        <p:spPr>
          <a:xfrm>
            <a:off x="341280" y="5143680"/>
            <a:ext cx="85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（ 津津有味、如醉如痴、牵肠挂肚、念念不忘、如饥似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文本框 49153"/>
          <p:cNvSpPr/>
          <p:nvPr/>
        </p:nvSpPr>
        <p:spPr>
          <a:xfrm>
            <a:off x="2350440" y="449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两次写作文经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49154"/>
          <p:cNvSpPr txBox="1"/>
          <p:nvPr/>
        </p:nvSpPr>
        <p:spPr>
          <a:xfrm>
            <a:off x="685800" y="1219320"/>
            <a:ext cx="13716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先写：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3" name="文本框 49155"/>
          <p:cNvSpPr/>
          <p:nvPr/>
        </p:nvSpPr>
        <p:spPr>
          <a:xfrm>
            <a:off x="3076200" y="12636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秋天来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49156"/>
          <p:cNvSpPr txBox="1"/>
          <p:nvPr/>
        </p:nvSpPr>
        <p:spPr>
          <a:xfrm>
            <a:off x="304920" y="220968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千篇一律：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5" name="矩形 49157"/>
          <p:cNvSpPr txBox="1"/>
          <p:nvPr/>
        </p:nvSpPr>
        <p:spPr>
          <a:xfrm>
            <a:off x="611280" y="3500280"/>
            <a:ext cx="16002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者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6" name="文本框 49158"/>
          <p:cNvSpPr/>
          <p:nvPr/>
        </p:nvSpPr>
        <p:spPr>
          <a:xfrm>
            <a:off x="3929400" y="5589720"/>
            <a:ext cx="168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道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作文构思要别出心裁；落笔与众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49159"/>
          <p:cNvSpPr/>
          <p:nvPr/>
        </p:nvSpPr>
        <p:spPr>
          <a:xfrm>
            <a:off x="3893040" y="2152800"/>
            <a:ext cx="31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秋天来了，树叶黄了，一片一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飘到了地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49160"/>
          <p:cNvSpPr/>
          <p:nvPr/>
        </p:nvSpPr>
        <p:spPr>
          <a:xfrm>
            <a:off x="3831840" y="3232080"/>
            <a:ext cx="359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秋天比作一个穿着金色衣裙的仙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她那轻飘的衣袖拂去了太阳的焦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明亮和清爽撒给大地；她用宽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衣衫挡着风寒，却捧起沉甸甸的果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奉献人间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文本框 50177"/>
          <p:cNvSpPr/>
          <p:nvPr/>
        </p:nvSpPr>
        <p:spPr>
          <a:xfrm>
            <a:off x="3734640" y="3333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第二次写作：一件不愉快的往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文本框 50178"/>
          <p:cNvSpPr/>
          <p:nvPr/>
        </p:nvSpPr>
        <p:spPr>
          <a:xfrm>
            <a:off x="669960" y="169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50179"/>
          <p:cNvSpPr/>
          <p:nvPr/>
        </p:nvSpPr>
        <p:spPr>
          <a:xfrm>
            <a:off x="3712320" y="1413000"/>
            <a:ext cx="142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我从一个清冷的黄昏开始写，以月亮的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丽皎洁和周围人的嬉笑，来反衬一个受委屈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	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的孤独和寂寞。写着写着，我禁不住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泪花花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PMingLi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50180"/>
          <p:cNvSpPr/>
          <p:nvPr/>
        </p:nvSpPr>
        <p:spPr>
          <a:xfrm>
            <a:off x="4313520" y="36590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月亮像一轮玉盘嵌在蓝色的天幕中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50181"/>
          <p:cNvSpPr txBox="1"/>
          <p:nvPr/>
        </p:nvSpPr>
        <p:spPr>
          <a:xfrm>
            <a:off x="395280" y="4724280"/>
            <a:ext cx="93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道理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4" name="文本框 50182"/>
          <p:cNvSpPr/>
          <p:nvPr/>
        </p:nvSpPr>
        <p:spPr>
          <a:xfrm>
            <a:off x="2732760" y="4724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PMingLiU"/>
              </a:rPr>
              <a:t>真情实感才能打动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50"/>
                </a:solidFill>
                <a:latin typeface="Arial"/>
              </a:rPr>
              <a:t>积累、体会文中精彩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1000080" y="1143000"/>
            <a:ext cx="71438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宋体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作文，首先构思要别出心裁，落笔也要有点与众不同的鲜味才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作文，要写真情实感；作文练习，开始离不开借鉴和模仿，但是真正打动人心的东西，应该是自己呕心沥血的创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*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华文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假如不是读过几百部真正的小说，我决不可能写出那八百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宋体"/>
              </a:rPr>
              <a:t>社会人生这部深奥绵长的大书，我什么时候才能读懂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文本框 81921"/>
          <p:cNvSpPr/>
          <p:nvPr/>
        </p:nvSpPr>
        <p:spPr>
          <a:xfrm>
            <a:off x="2664000" y="779400"/>
            <a:ext cx="632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叶文玲，当代女作家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4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月４日生于浙江省玉环县楚门镇。１９５８年发表处女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我和雪梅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，从此走上文坛，后以短篇小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心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名闻遐迩。她恪守“美是文学的生命”的宗旨，孜孜于真善美的追求，同时致力于散文创作，收获颇丰。至今已有６００多万字３６本作品集及一部８卷本文集出版；是中国当代文坛极为勤奋很有影响的作家，其作品曾获多种奖项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图片 81922" descr="W020071030376160002083"/>
          <p:cNvPicPr/>
          <p:nvPr/>
        </p:nvPicPr>
        <p:blipFill>
          <a:blip r:embed="rId1"/>
          <a:stretch/>
        </p:blipFill>
        <p:spPr>
          <a:xfrm>
            <a:off x="0" y="1447920"/>
            <a:ext cx="2568600" cy="3809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文本框 87041"/>
          <p:cNvSpPr/>
          <p:nvPr/>
        </p:nvSpPr>
        <p:spPr>
          <a:xfrm>
            <a:off x="531720" y="260280"/>
            <a:ext cx="72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书，被称为人类文明的“长生果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87042"/>
          <p:cNvSpPr/>
          <p:nvPr/>
        </p:nvSpPr>
        <p:spPr>
          <a:xfrm>
            <a:off x="419040" y="1197000"/>
            <a:ext cx="7070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长生果，即吃了可以使人长生不老的果子，在这里指营养极其丰富。这句话将书比喻为“长生果”，意思是书是人类的精神食粮，是人类文明延续的营养。充分表达了书与人类文明发展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文本框 88065"/>
          <p:cNvSpPr/>
          <p:nvPr/>
        </p:nvSpPr>
        <p:spPr>
          <a:xfrm>
            <a:off x="700200" y="404640"/>
            <a:ext cx="77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d8ec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d9d8ec"/>
                </a:solidFill>
                <a:latin typeface="Arial"/>
                <a:ea typeface="宋体"/>
              </a:rPr>
              <a:t>我读得很快，囫囵吞枣，大有“不求甚解”味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88066"/>
          <p:cNvSpPr/>
          <p:nvPr/>
        </p:nvSpPr>
        <p:spPr>
          <a:xfrm>
            <a:off x="838080" y="1981080"/>
            <a:ext cx="7910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囫囵吞枣，比喻读书不做细致地分析，笼统地接受。“不求甚解” 意思是读书只要略知大意就可以了，不必追求透彻。这里是指作者水平有限，因读不懂而放过去，不得已而为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文本框 91137"/>
          <p:cNvSpPr/>
          <p:nvPr/>
        </p:nvSpPr>
        <p:spPr>
          <a:xfrm>
            <a:off x="531720" y="260280"/>
            <a:ext cx="72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作文，首先构思要别出心裁，落笔也要有点与众不同的“鲜味”才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91138"/>
          <p:cNvSpPr/>
          <p:nvPr/>
        </p:nvSpPr>
        <p:spPr>
          <a:xfrm>
            <a:off x="419040" y="1916280"/>
            <a:ext cx="707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别出心裁”，意思是与众不同的主意；“鲜味”，即新鲜的味道。这句话是作者在一次成功的习作后悟出的道理，完全得益于课外阅读。意思是要想将作文写好，就先要打破千篇一律的模式，不落窠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图片 160769" descr="{4A0CB27D-44AC-480B-9951-56442F32768C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4" name="文本框 160770"/>
          <p:cNvSpPr/>
          <p:nvPr/>
        </p:nvSpPr>
        <p:spPr>
          <a:xfrm>
            <a:off x="1260360" y="16239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       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小时候受过的一次委屈，平常积累的那些描写苦恼心境的词语，像酵母似的发挥了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160771"/>
          <p:cNvSpPr/>
          <p:nvPr/>
        </p:nvSpPr>
        <p:spPr>
          <a:xfrm>
            <a:off x="1258920" y="32590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9966ff"/>
                </a:solidFill>
                <a:latin typeface="Arial"/>
                <a:ea typeface="楷体_GB2312"/>
              </a:rPr>
              <a:t>真实的情感体验和课外阅读的积累，为这次作文奠定了良好的基础。厚积才能薄发。非常形象地说明了课外阅读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文本框 92161"/>
          <p:cNvSpPr/>
          <p:nvPr/>
        </p:nvSpPr>
        <p:spPr>
          <a:xfrm>
            <a:off x="685800" y="228600"/>
            <a:ext cx="77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d8ec"/>
                </a:solidFill>
                <a:latin typeface="Arial"/>
              </a:rPr>
              <a:t>⑤</a:t>
            </a:r>
            <a:r>
              <a:rPr b="1" lang="zh-CN" sz="3600" spc="-1" strike="noStrike">
                <a:solidFill>
                  <a:srgbClr val="d9d8ec"/>
                </a:solidFill>
                <a:latin typeface="Arial"/>
                <a:ea typeface="宋体"/>
              </a:rPr>
              <a:t>作文，要写真情实感；作文练习，开始离不开借鉴和模仿，但是真正打动人心的东西，应该是自己呕心沥血的创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92162"/>
          <p:cNvSpPr/>
          <p:nvPr/>
        </p:nvSpPr>
        <p:spPr>
          <a:xfrm>
            <a:off x="700200" y="2371680"/>
            <a:ext cx="79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借鉴”，拿别人的事作为镜子，以便从中吸取经验教训。鉴，镜子。“模仿”，仿效，照着样子做。“呕心沥血”，比喻费尽心血。这是作者在又一次成功习作后悟出的道理。作文应该表达真情实感，有感而发，以情感人；开始时必须要进行模仿和借鉴，习得一些方法。但只有浸透着自己心血和汗水的创造，才能打动人心，具有撼人心魄的力量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TextBox 1"/>
          <p:cNvSpPr/>
          <p:nvPr/>
        </p:nvSpPr>
        <p:spPr>
          <a:xfrm>
            <a:off x="1143000" y="457200"/>
            <a:ext cx="712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蜂蝶飞过花丛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泉水流经山谷。我每忆及少年时代，就禁不住涌起视听的愉悦之感。在记忆的心扉中，少年时代的读书生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恰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幅流光溢彩的画页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也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阕跳跃着欢快音符的乐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“月亮‘像一轮玉盘嵌在蓝色的天幕中’”这段文字中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字用得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2"/>
          <p:cNvSpPr/>
          <p:nvPr/>
        </p:nvSpPr>
        <p:spPr>
          <a:xfrm>
            <a:off x="1066680" y="0"/>
            <a:ext cx="23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句段品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3"/>
          <p:cNvSpPr/>
          <p:nvPr/>
        </p:nvSpPr>
        <p:spPr>
          <a:xfrm>
            <a:off x="1447920" y="2584440"/>
            <a:ext cx="70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运用比喻的修辞手法，把读书的那种愉悦感受生动、形象的表达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4"/>
          <p:cNvSpPr/>
          <p:nvPr/>
        </p:nvSpPr>
        <p:spPr>
          <a:xfrm>
            <a:off x="1238400" y="438948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运用比喻的手法，生动、形象地描写了月亮像玉盘一样镶嵌在蓝色的天幕中，给人一种宁静、恬美的感觉。一个“嵌”字把月亮与蓝色的天幕连接起来，构成一幅优美的画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文本框 68609"/>
          <p:cNvSpPr/>
          <p:nvPr/>
        </p:nvSpPr>
        <p:spPr>
          <a:xfrm>
            <a:off x="1042920" y="1628640"/>
            <a:ext cx="7429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少年时代的读书生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--------------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-------------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恰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-----------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也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----------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班得瑞、轻音乐_-_人间天上.mp3" descr=""/>
          <p:cNvPicPr/>
          <p:nvPr/>
        </p:nvPicPr>
        <p:blipFill>
          <a:blip r:embed="rId1"/>
          <a:stretch/>
        </p:blipFill>
        <p:spPr>
          <a:xfrm>
            <a:off x="684360" y="587700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6" dur="251011" fill="hold"/>
                                        <p:tgtEl>
                                          <p:spTgt spid="1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图片 40961" descr=""/>
          <p:cNvPicPr/>
          <p:nvPr/>
        </p:nvPicPr>
        <p:blipFill>
          <a:blip r:embed="rId1"/>
          <a:srcRect l="1667" t="0" r="6669" b="0"/>
          <a:stretch/>
        </p:blipFill>
        <p:spPr>
          <a:xfrm>
            <a:off x="1828800" y="228600"/>
            <a:ext cx="6019920" cy="13716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40962" descr="f2"/>
          <p:cNvPicPr/>
          <p:nvPr/>
        </p:nvPicPr>
        <p:blipFill>
          <a:blip r:embed="rId2"/>
          <a:srcRect l="1769" t="0" r="88502" b="0"/>
          <a:stretch/>
        </p:blipFill>
        <p:spPr>
          <a:xfrm>
            <a:off x="0" y="1676520"/>
            <a:ext cx="1143000" cy="4572000"/>
          </a:xfrm>
          <a:prstGeom prst="rect">
            <a:avLst/>
          </a:prstGeom>
          <a:ln w="0">
            <a:noFill/>
          </a:ln>
        </p:spPr>
      </p:pic>
      <p:pic>
        <p:nvPicPr>
          <p:cNvPr id="1176" name="图片 40963" descr="x1pIuxx1VYmtQtN0XzG83IKmSU67dLoCLDnKYl5zUoA-UT5ULhLD1ytSfWXRf0j9-6ehCoc-eNtjLWGYHJwZ7ZHdnP-qRVs4ykOP2YT8xvGqgTRci6KTQ9pEWK8No9ndgaGKft56dJE0EY"/>
          <p:cNvPicPr/>
          <p:nvPr/>
        </p:nvPicPr>
        <p:blipFill>
          <a:blip r:embed="rId3"/>
          <a:stretch/>
        </p:blipFill>
        <p:spPr>
          <a:xfrm>
            <a:off x="8077320" y="1676520"/>
            <a:ext cx="1066680" cy="4572000"/>
          </a:xfrm>
          <a:prstGeom prst="rect">
            <a:avLst/>
          </a:prstGeom>
          <a:ln w="0">
            <a:noFill/>
          </a:ln>
        </p:spPr>
      </p:pic>
      <p:sp>
        <p:nvSpPr>
          <p:cNvPr id="1177" name="文本框 40964"/>
          <p:cNvSpPr/>
          <p:nvPr/>
        </p:nvSpPr>
        <p:spPr>
          <a:xfrm>
            <a:off x="129528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书，被人们称为人类文明的“长生果”。这个比喻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ù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我觉得特别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矩形 40965"/>
          <p:cNvSpPr/>
          <p:nvPr/>
        </p:nvSpPr>
        <p:spPr>
          <a:xfrm>
            <a:off x="1066680" y="2819520"/>
            <a:ext cx="7239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华文行楷"/>
              </a:rPr>
              <a:t>将书比喻为“长生果”，意思是书是人类的精神食粮，是人类文明延续的营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矩形 40966"/>
          <p:cNvSpPr/>
          <p:nvPr/>
        </p:nvSpPr>
        <p:spPr>
          <a:xfrm>
            <a:off x="2362320" y="457200"/>
            <a:ext cx="464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比喻描写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矩形 40967"/>
          <p:cNvSpPr/>
          <p:nvPr/>
        </p:nvSpPr>
        <p:spPr>
          <a:xfrm>
            <a:off x="685800" y="3962520"/>
            <a:ext cx="7620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蜂蝶飞过花丛，像泉水流经山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似一幅流光溢彩的画页，也似一阕跳跃着欢快音符的乐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最早的读物是被孩子们叫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烟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画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矩形 79873"/>
          <p:cNvSpPr txBox="1"/>
          <p:nvPr/>
        </p:nvSpPr>
        <p:spPr>
          <a:xfrm>
            <a:off x="2197080" y="838080"/>
            <a:ext cx="1425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文章思路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2" name="直接连接符 79874"/>
          <p:cNvSpPr/>
          <p:nvPr/>
        </p:nvSpPr>
        <p:spPr>
          <a:xfrm>
            <a:off x="2849400" y="1447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矩形 79875"/>
          <p:cNvSpPr txBox="1"/>
          <p:nvPr/>
        </p:nvSpPr>
        <p:spPr>
          <a:xfrm>
            <a:off x="1187280" y="2133720"/>
            <a:ext cx="3562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总写读书的感受：愉悦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84" name="直接连接符 79876"/>
          <p:cNvSpPr/>
          <p:nvPr/>
        </p:nvSpPr>
        <p:spPr>
          <a:xfrm>
            <a:off x="284940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矩形 79877"/>
          <p:cNvSpPr txBox="1"/>
          <p:nvPr/>
        </p:nvSpPr>
        <p:spPr>
          <a:xfrm>
            <a:off x="1187280" y="3429000"/>
            <a:ext cx="391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回忆少年时代的读书经历、影响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86" name="矩形 79878"/>
          <p:cNvSpPr txBox="1"/>
          <p:nvPr/>
        </p:nvSpPr>
        <p:spPr>
          <a:xfrm>
            <a:off x="1068480" y="4648320"/>
            <a:ext cx="463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抒发自己对读书和人生的感慨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87" name="直接连接符 79879"/>
          <p:cNvSpPr/>
          <p:nvPr/>
        </p:nvSpPr>
        <p:spPr>
          <a:xfrm>
            <a:off x="284940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直接连接符 79880"/>
          <p:cNvSpPr/>
          <p:nvPr/>
        </p:nvSpPr>
        <p:spPr>
          <a:xfrm>
            <a:off x="5284800" y="3429000"/>
            <a:ext cx="6523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矩形 79881"/>
          <p:cNvSpPr txBox="1"/>
          <p:nvPr/>
        </p:nvSpPr>
        <p:spPr>
          <a:xfrm>
            <a:off x="6294600" y="914400"/>
            <a:ext cx="249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悟出的写作技巧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0" name="矩形 79882"/>
          <p:cNvSpPr txBox="1"/>
          <p:nvPr/>
        </p:nvSpPr>
        <p:spPr>
          <a:xfrm>
            <a:off x="6353280" y="2057400"/>
            <a:ext cx="178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构思要精巧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91" name="矩形 79883"/>
          <p:cNvSpPr txBox="1"/>
          <p:nvPr/>
        </p:nvSpPr>
        <p:spPr>
          <a:xfrm>
            <a:off x="6175440" y="3048120"/>
            <a:ext cx="213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要写真情实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92" name="矩形 79884"/>
          <p:cNvSpPr txBox="1"/>
          <p:nvPr/>
        </p:nvSpPr>
        <p:spPr>
          <a:xfrm>
            <a:off x="6353280" y="4114800"/>
            <a:ext cx="1425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要有创造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93" name="矩形 79885"/>
          <p:cNvSpPr txBox="1"/>
          <p:nvPr/>
        </p:nvSpPr>
        <p:spPr>
          <a:xfrm>
            <a:off x="6294600" y="4876920"/>
            <a:ext cx="178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要长期积累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图片 57346" descr="3085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96" name="文本框 57347"/>
          <p:cNvSpPr/>
          <p:nvPr/>
        </p:nvSpPr>
        <p:spPr>
          <a:xfrm>
            <a:off x="304920" y="685800"/>
            <a:ext cx="81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的“长生果”指的是什么？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57348"/>
          <p:cNvSpPr/>
          <p:nvPr/>
        </p:nvSpPr>
        <p:spPr>
          <a:xfrm>
            <a:off x="250920" y="1523880"/>
            <a:ext cx="889308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长生果指吃了可以使人长生不老的果子，这里指营养极其丰富。作者将书比喻为“长生果”，意思是书是人类的精神食量，充分表达了书与人类发展的关系。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57349"/>
          <p:cNvSpPr/>
          <p:nvPr/>
        </p:nvSpPr>
        <p:spPr>
          <a:xfrm>
            <a:off x="7740720" y="6669000"/>
            <a:ext cx="100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9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文本框 71681"/>
          <p:cNvSpPr/>
          <p:nvPr/>
        </p:nvSpPr>
        <p:spPr>
          <a:xfrm>
            <a:off x="1981080" y="7621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我的“长生果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71682"/>
          <p:cNvSpPr/>
          <p:nvPr/>
        </p:nvSpPr>
        <p:spPr>
          <a:xfrm>
            <a:off x="4952880" y="1600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叶文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71683"/>
          <p:cNvSpPr/>
          <p:nvPr/>
        </p:nvSpPr>
        <p:spPr>
          <a:xfrm>
            <a:off x="838080" y="22096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99"/>
                </a:solidFill>
                <a:latin typeface="Times New Roman"/>
                <a:ea typeface="宋体"/>
              </a:rPr>
              <a:t>解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71684"/>
          <p:cNvSpPr/>
          <p:nvPr/>
        </p:nvSpPr>
        <p:spPr>
          <a:xfrm>
            <a:off x="914400" y="2971800"/>
            <a:ext cx="68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篇散文，主体是回忆少年时代的读书生活，阐明读书的特有感受以及读书对自己生活的影响，感情真挚，层次分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文本框 32772"/>
          <p:cNvSpPr/>
          <p:nvPr/>
        </p:nvSpPr>
        <p:spPr>
          <a:xfrm>
            <a:off x="2590920" y="38088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悟出的道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32773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32774"/>
          <p:cNvSpPr/>
          <p:nvPr/>
        </p:nvSpPr>
        <p:spPr>
          <a:xfrm>
            <a:off x="380880" y="15238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作文，首先构思要别出心裁，落笔也　　　要有点与众不同的“鲜味”才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32775"/>
          <p:cNvSpPr/>
          <p:nvPr/>
        </p:nvSpPr>
        <p:spPr>
          <a:xfrm>
            <a:off x="228600" y="30481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作文，要写真情实感；作文练习，开始离不开借鉴和模仿，但是真正打动人心的东西，应该是自己呕心沥血的创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图片 32776" descr="dushunvhai"/>
          <p:cNvPicPr/>
          <p:nvPr/>
        </p:nvPicPr>
        <p:blipFill>
          <a:blip r:embed="rId1"/>
          <a:stretch/>
        </p:blipFill>
        <p:spPr>
          <a:xfrm>
            <a:off x="533520" y="304920"/>
            <a:ext cx="896760" cy="1119240"/>
          </a:xfrm>
          <a:prstGeom prst="rect">
            <a:avLst/>
          </a:prstGeom>
          <a:ln w="0">
            <a:noFill/>
          </a:ln>
        </p:spPr>
      </p:pic>
      <p:pic>
        <p:nvPicPr>
          <p:cNvPr id="1204" name="图片 32777" descr="gezi"/>
          <p:cNvPicPr/>
          <p:nvPr/>
        </p:nvPicPr>
        <p:blipFill>
          <a:blip r:embed="rId2"/>
          <a:stretch/>
        </p:blipFill>
        <p:spPr>
          <a:xfrm>
            <a:off x="7543800" y="45720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9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矩形 80897"/>
          <p:cNvSpPr txBox="1"/>
          <p:nvPr/>
        </p:nvSpPr>
        <p:spPr>
          <a:xfrm>
            <a:off x="1128600" y="228600"/>
            <a:ext cx="2849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、课外延伸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6" name="矩形 80898"/>
          <p:cNvSpPr txBox="1"/>
          <p:nvPr/>
        </p:nvSpPr>
        <p:spPr>
          <a:xfrm>
            <a:off x="1959120" y="1447920"/>
            <a:ext cx="694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者由自己的读书经历悟出了哪些有关作文的道理？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7" name="矩形 80899"/>
          <p:cNvSpPr txBox="1"/>
          <p:nvPr/>
        </p:nvSpPr>
        <p:spPr>
          <a:xfrm>
            <a:off x="1068480" y="2666880"/>
            <a:ext cx="8075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由自己的读书经历，又悟出了哪些与作者不同的道理？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莎士比亚说：“书籍是全世界的营养品。像我这样对阅读如饥似渴的少年，它的功用更是不言而喻。醉心阅读使我得到了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报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图片 60418" descr="dushunvhai"/>
          <p:cNvPicPr/>
          <p:nvPr/>
        </p:nvPicPr>
        <p:blipFill>
          <a:blip r:embed="rId1"/>
          <a:stretch/>
        </p:blipFill>
        <p:spPr>
          <a:xfrm>
            <a:off x="380880" y="380880"/>
            <a:ext cx="1160640" cy="1447920"/>
          </a:xfrm>
          <a:prstGeom prst="rect">
            <a:avLst/>
          </a:prstGeom>
          <a:ln w="0">
            <a:noFill/>
          </a:ln>
        </p:spPr>
      </p:pic>
      <p:pic>
        <p:nvPicPr>
          <p:cNvPr id="1210" name="图片 60419" descr="48_66453_ea4af53165747cc"/>
          <p:cNvPicPr/>
          <p:nvPr/>
        </p:nvPicPr>
        <p:blipFill>
          <a:blip r:embed="rId2"/>
          <a:stretch/>
        </p:blipFill>
        <p:spPr>
          <a:xfrm>
            <a:off x="7620120" y="380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文本框 163841"/>
          <p:cNvSpPr/>
          <p:nvPr/>
        </p:nvSpPr>
        <p:spPr>
          <a:xfrm>
            <a:off x="3995640" y="321300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看来书真正是全世界的营养品啊！即使多年之后品味读书的味道，还是这样让人心醉。让我们再读读课文，体会那种读书的乐趣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163842"/>
          <p:cNvSpPr/>
          <p:nvPr/>
        </p:nvSpPr>
        <p:spPr>
          <a:xfrm>
            <a:off x="250920" y="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宋体"/>
              </a:rPr>
              <a:t>回归整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组合 164865"/>
          <p:cNvGrpSpPr/>
          <p:nvPr/>
        </p:nvGrpSpPr>
        <p:grpSpPr>
          <a:xfrm>
            <a:off x="2771640" y="907920"/>
            <a:ext cx="4190760" cy="1066680"/>
            <a:chOff x="2771640" y="907920"/>
            <a:chExt cx="4190760" cy="1066680"/>
          </a:xfrm>
        </p:grpSpPr>
        <p:grpSp>
          <p:nvGrpSpPr>
            <p:cNvPr id="1214" name="组合 164866"/>
            <p:cNvGrpSpPr/>
            <p:nvPr/>
          </p:nvGrpSpPr>
          <p:grpSpPr>
            <a:xfrm>
              <a:off x="2771640" y="907920"/>
              <a:ext cx="3886200" cy="1066680"/>
              <a:chOff x="2771640" y="907920"/>
              <a:chExt cx="3886200" cy="1066680"/>
            </a:xfrm>
          </p:grpSpPr>
          <p:sp>
            <p:nvSpPr>
              <p:cNvPr id="1215" name="椭圆 164867"/>
              <p:cNvSpPr/>
              <p:nvPr/>
            </p:nvSpPr>
            <p:spPr>
              <a:xfrm>
                <a:off x="2771640" y="907920"/>
                <a:ext cx="3200400" cy="1066680"/>
              </a:xfrm>
              <a:prstGeom prst="ellipse">
                <a:avLst/>
              </a:prstGeom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文本框 164868"/>
              <p:cNvSpPr/>
              <p:nvPr/>
            </p:nvSpPr>
            <p:spPr>
              <a:xfrm>
                <a:off x="3000240" y="983880"/>
                <a:ext cx="3657600" cy="825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52300" dir="836435" blurRad="0" rotWithShape="0">
                  <a:srgbClr val="fff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4800" spc="-1" strike="noStrike">
                    <a:solidFill>
                      <a:srgbClr val="ff33cc"/>
                    </a:solidFill>
                    <a:latin typeface="Times New Roman"/>
                    <a:ea typeface="方正姚体"/>
                  </a:rPr>
                  <a:t>课堂小结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7" name="图片 164869" descr="png-0070"/>
            <p:cNvPicPr/>
            <p:nvPr/>
          </p:nvPicPr>
          <p:blipFill>
            <a:blip r:embed="rId1"/>
            <a:stretch/>
          </p:blipFill>
          <p:spPr>
            <a:xfrm>
              <a:off x="6124320" y="106056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8" name="文本框 164870"/>
          <p:cNvSpPr/>
          <p:nvPr/>
        </p:nvSpPr>
        <p:spPr>
          <a:xfrm>
            <a:off x="971640" y="2276640"/>
            <a:ext cx="72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中宋"/>
              </a:rPr>
              <a:t>这是一篇散文，主体是回忆少年时代的读书生活，阐明读书的特有感受以及读书对自己生活的影响，感情真挚，层次分明。作者在读写的实践中，逐渐悟出了读写间的关系和写作方法 ，值得我们在以后的学习中借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图片 164871" descr="png-0157"/>
          <p:cNvPicPr/>
          <p:nvPr/>
        </p:nvPicPr>
        <p:blipFill>
          <a:blip r:embed="rId2"/>
          <a:stretch/>
        </p:blipFill>
        <p:spPr>
          <a:xfrm>
            <a:off x="6732720" y="479736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3" name="wind.wav"/>
      </p:stSnd>
    </p:sndAc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文本框 165889"/>
          <p:cNvSpPr/>
          <p:nvPr/>
        </p:nvSpPr>
        <p:spPr>
          <a:xfrm>
            <a:off x="1619280" y="981000"/>
            <a:ext cx="597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品读文章语言，作者在运用语言上有什么特点？</a:t>
            </a:r>
            <a:r>
              <a:rPr b="1" lang="zh-CN" sz="2800" spc="-1" strike="noStrike">
                <a:solidFill>
                  <a:srgbClr val="0066ff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165890"/>
          <p:cNvSpPr/>
          <p:nvPr/>
        </p:nvSpPr>
        <p:spPr>
          <a:xfrm>
            <a:off x="1042920" y="2565360"/>
            <a:ext cx="676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．生动的比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．恰当的成语。例如，流光溢彩、津津有味、天长日久、如醉如痴、浮想联翩、悲欢离合、牵肠挂肚、如饥似渴、不言而喻、黯然神伤、千篇一律、大显身手、心安理得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图片 165891" descr="Gif32"/>
          <p:cNvPicPr/>
          <p:nvPr/>
        </p:nvPicPr>
        <p:blipFill>
          <a:blip r:embed="rId1"/>
          <a:stretch/>
        </p:blipFill>
        <p:spPr>
          <a:xfrm>
            <a:off x="7524720" y="4654440"/>
            <a:ext cx="205740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0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5"/>
          <p:cNvSpPr/>
          <p:nvPr/>
        </p:nvSpPr>
        <p:spPr>
          <a:xfrm>
            <a:off x="0" y="1472400"/>
            <a:ext cx="9144000" cy="88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开卷有益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晋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陶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书山有路勤为径，学海无涯苦作舟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韩愈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书到用时方恨少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陆游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读书破万卷，下笔如有神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杜甫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读万卷书，行万里路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清代钱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读一本好书，就是和许多高尚的人谈话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歌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书籍是人类知识的总结，书籍是全世界的营养品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书籍是人类进步的阶梯。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-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6"/>
          <p:cNvSpPr/>
          <p:nvPr/>
        </p:nvSpPr>
        <p:spPr>
          <a:xfrm>
            <a:off x="1000080" y="0"/>
            <a:ext cx="6357960" cy="1312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8000" spc="-1" strike="noStrike">
                <a:solidFill>
                  <a:srgbClr val="ff3300"/>
                </a:solidFill>
                <a:latin typeface="黑体"/>
                <a:ea typeface="黑体"/>
              </a:rPr>
              <a:t>读书名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文本框 69633"/>
          <p:cNvSpPr/>
          <p:nvPr/>
        </p:nvSpPr>
        <p:spPr>
          <a:xfrm>
            <a:off x="179280" y="260280"/>
            <a:ext cx="87138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书的格言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好的书籍是最贵重的珍宝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别林斯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籍使人们成为宇宙的主人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巴甫连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中横卧着整个过去的灵魂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莱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的影响短暂而微弱，书的影响则广泛而深远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希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离开了书，如同离开空气一样不能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科洛廖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籍把我们引入最美好的社会，使我们认识各个时代的伟大智者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史美尔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籍便是这种改造灵魂的工具。人类所需要的，是富有启发性的养料。而阅读，则正是这种养料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雨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日期占位符 1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页脚占位符 2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4"/>
          <p:cNvSpPr/>
          <p:nvPr/>
        </p:nvSpPr>
        <p:spPr>
          <a:xfrm>
            <a:off x="861840" y="1071720"/>
            <a:ext cx="82821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孔子韦编三绝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西汉匡衡凿壁借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晋朝车胤囊萤映雪    汉代孙敬</a:t>
            </a: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头悬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战国苏秦</a:t>
            </a: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锥刺股        鲁迅嚼辣椒驱寒</a:t>
            </a:r>
            <a:r>
              <a:rPr b="0" lang="zh-CN" sz="3200" spc="-1" strike="noStrike">
                <a:solidFill>
                  <a:srgbClr val="0000ff"/>
                </a:solidFill>
                <a:latin typeface="Garamond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6"/>
          <p:cNvSpPr/>
          <p:nvPr/>
        </p:nvSpPr>
        <p:spPr>
          <a:xfrm>
            <a:off x="1789200" y="0"/>
            <a:ext cx="628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0a0"/>
                </a:solidFill>
                <a:latin typeface="Garamond"/>
                <a:ea typeface="黑体"/>
              </a:rPr>
              <a:t>名人读书的趣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Box 5"/>
          <p:cNvSpPr/>
          <p:nvPr/>
        </p:nvSpPr>
        <p:spPr>
          <a:xfrm>
            <a:off x="5572080" y="142920"/>
            <a:ext cx="1500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"/>
          <p:cNvSpPr/>
          <p:nvPr/>
        </p:nvSpPr>
        <p:spPr>
          <a:xfrm>
            <a:off x="731880" y="2151720"/>
            <a:ext cx="82137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列宁读起书来，对周围的一切就理会不到了。有一次，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几个姐妹恶作剧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椅子在他身后搭了一个不稳定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角塔，只要列宁一动，塔就会倾倒。然而，正专心读书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列宁毫无察觉，纹丝不动。直到半小时后，他读完了预定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读的一章书，才抬起头来，木塔轰然倒塌…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7"/>
          <p:cNvSpPr/>
          <p:nvPr/>
        </p:nvSpPr>
        <p:spPr>
          <a:xfrm>
            <a:off x="1287360" y="128592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Garamond"/>
                <a:ea typeface="黑体"/>
              </a:rPr>
              <a:t>列宁读书趣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Text Box 6"/>
          <p:cNvSpPr/>
          <p:nvPr/>
        </p:nvSpPr>
        <p:spPr>
          <a:xfrm>
            <a:off x="415800" y="685800"/>
            <a:ext cx="830520" cy="3751560"/>
          </a:xfrm>
          <a:prstGeom prst="rect">
            <a:avLst/>
          </a:prstGeom>
          <a:solidFill>
            <a:srgbClr val="00b05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各抒己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7"/>
          <p:cNvSpPr/>
          <p:nvPr/>
        </p:nvSpPr>
        <p:spPr>
          <a:xfrm>
            <a:off x="1722600" y="1447920"/>
            <a:ext cx="385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宋体"/>
              </a:rPr>
              <a:t>你能说说自己和书之间的故事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8" descr="D:\wendang\xinlifudao\心理图片\读书图.gif"/>
          <p:cNvPicPr/>
          <p:nvPr/>
        </p:nvPicPr>
        <p:blipFill>
          <a:blip r:embed="rId1"/>
          <a:stretch/>
        </p:blipFill>
        <p:spPr>
          <a:xfrm>
            <a:off x="5878440" y="990720"/>
            <a:ext cx="326556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64513" descr="背景2"/>
          <p:cNvPicPr/>
          <p:nvPr/>
        </p:nvPicPr>
        <p:blipFill>
          <a:blip r:embed="rId1"/>
          <a:stretch/>
        </p:blipFill>
        <p:spPr>
          <a:xfrm>
            <a:off x="0" y="-1251000"/>
            <a:ext cx="9144000" cy="7317000"/>
          </a:xfrm>
          <a:prstGeom prst="rect">
            <a:avLst/>
          </a:prstGeom>
          <a:ln w="0">
            <a:noFill/>
          </a:ln>
        </p:spPr>
      </p:pic>
      <p:sp>
        <p:nvSpPr>
          <p:cNvPr id="1013" name="文本框 64514"/>
          <p:cNvSpPr/>
          <p:nvPr/>
        </p:nvSpPr>
        <p:spPr>
          <a:xfrm>
            <a:off x="1403280" y="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我会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64515"/>
          <p:cNvSpPr/>
          <p:nvPr/>
        </p:nvSpPr>
        <p:spPr>
          <a:xfrm>
            <a:off x="1332000" y="1341360"/>
            <a:ext cx="7056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不言而喻       心扉      呐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过瘾        囫囵吞枣   莎士比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磁石     锻炼   借鉴   呕心沥血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文本框 64516"/>
          <p:cNvSpPr/>
          <p:nvPr/>
        </p:nvSpPr>
        <p:spPr>
          <a:xfrm>
            <a:off x="2987640" y="692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y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64517"/>
          <p:cNvSpPr/>
          <p:nvPr/>
        </p:nvSpPr>
        <p:spPr>
          <a:xfrm>
            <a:off x="4788000" y="6922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fē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文本框 64518"/>
          <p:cNvSpPr/>
          <p:nvPr/>
        </p:nvSpPr>
        <p:spPr>
          <a:xfrm>
            <a:off x="6227640" y="765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n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64519"/>
          <p:cNvSpPr/>
          <p:nvPr/>
        </p:nvSpPr>
        <p:spPr>
          <a:xfrm>
            <a:off x="1979640" y="227664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yǐ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64520"/>
          <p:cNvSpPr/>
          <p:nvPr/>
        </p:nvSpPr>
        <p:spPr>
          <a:xfrm>
            <a:off x="3492360" y="2276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hú lú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64521"/>
          <p:cNvSpPr/>
          <p:nvPr/>
        </p:nvSpPr>
        <p:spPr>
          <a:xfrm>
            <a:off x="6012000" y="220500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sh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64522"/>
          <p:cNvSpPr/>
          <p:nvPr/>
        </p:nvSpPr>
        <p:spPr>
          <a:xfrm>
            <a:off x="1692360" y="4149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c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64523"/>
          <p:cNvSpPr/>
          <p:nvPr/>
        </p:nvSpPr>
        <p:spPr>
          <a:xfrm>
            <a:off x="3276720" y="41497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u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64524"/>
          <p:cNvSpPr/>
          <p:nvPr/>
        </p:nvSpPr>
        <p:spPr>
          <a:xfrm>
            <a:off x="4788000" y="4221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j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64525"/>
          <p:cNvSpPr/>
          <p:nvPr/>
        </p:nvSpPr>
        <p:spPr>
          <a:xfrm>
            <a:off x="6227640" y="41497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ǒu 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l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Text Box 1026"/>
          <p:cNvSpPr/>
          <p:nvPr/>
        </p:nvSpPr>
        <p:spPr>
          <a:xfrm>
            <a:off x="1401840" y="42840"/>
            <a:ext cx="3786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画家说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里有许多美妙的图画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看着它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看到很多五彩缤纷的图像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作家说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里有一个又一个优美的故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读着它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明白做人的道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科学家说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里有令人心动的奥秘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研究它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创造惊天动地的奇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1027"/>
          <p:cNvSpPr/>
          <p:nvPr/>
        </p:nvSpPr>
        <p:spPr>
          <a:xfrm>
            <a:off x="5521320" y="285840"/>
            <a:ext cx="362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说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书是知识的海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它丰富了我的头脑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让我茁壮成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1028" descr="C:\My Documents\YD.BMP"/>
          <p:cNvPicPr/>
          <p:nvPr/>
        </p:nvPicPr>
        <p:blipFill>
          <a:blip r:embed="rId1">
            <a:lum contrast="-4000"/>
          </a:blip>
          <a:stretch/>
        </p:blipFill>
        <p:spPr>
          <a:xfrm>
            <a:off x="5343480" y="2286000"/>
            <a:ext cx="3444840" cy="4572000"/>
          </a:xfrm>
          <a:prstGeom prst="rect">
            <a:avLst/>
          </a:prstGeom>
          <a:ln w="0">
            <a:noFill/>
          </a:ln>
        </p:spPr>
      </p:pic>
      <p:sp>
        <p:nvSpPr>
          <p:cNvPr id="1241" name="Text Box 1029"/>
          <p:cNvSpPr/>
          <p:nvPr/>
        </p:nvSpPr>
        <p:spPr>
          <a:xfrm>
            <a:off x="415800" y="685800"/>
            <a:ext cx="830520" cy="3751560"/>
          </a:xfrm>
          <a:prstGeom prst="rect">
            <a:avLst/>
          </a:prstGeom>
          <a:solidFill>
            <a:srgbClr val="00b05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课后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Text Box 2"/>
          <p:cNvSpPr/>
          <p:nvPr/>
        </p:nvSpPr>
        <p:spPr>
          <a:xfrm>
            <a:off x="415800" y="685800"/>
            <a:ext cx="830520" cy="3751560"/>
          </a:xfrm>
          <a:prstGeom prst="rect">
            <a:avLst/>
          </a:prstGeom>
          <a:solidFill>
            <a:srgbClr val="00b05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课后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"/>
          <p:cNvSpPr/>
          <p:nvPr/>
        </p:nvSpPr>
        <p:spPr>
          <a:xfrm>
            <a:off x="2136600" y="1523880"/>
            <a:ext cx="635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文中提到很多有名的书，你是否看过？请选择你感兴趣的书来读并做好读书笔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以“我和书的故事”为话题作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WordArt 2"/>
          <p:cNvSpPr txBox="1"/>
          <p:nvPr/>
        </p:nvSpPr>
        <p:spPr>
          <a:xfrm>
            <a:off x="1662120" y="1905120"/>
            <a:ext cx="7243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752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</a:t>
            </a:r>
            <a:r>
              <a:rPr b="0" lang="zh-CN" sz="1800" spc="1" strike="noStrike">
                <a:ln w="4752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书好！好读书！读好书！ </a:t>
            </a:r>
            <a:endParaRPr b="0" lang="en-US" sz="1800" spc="1" strike="noStrike">
              <a:ln w="4752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66ff"/>
                </a:solidFill>
                <a:latin typeface="Arial"/>
                <a:ea typeface="华文隶书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Picture 5" descr="BD00028_"/>
          <p:cNvPicPr/>
          <p:nvPr/>
        </p:nvPicPr>
        <p:blipFill>
          <a:blip r:embed="rId1"/>
          <a:stretch/>
        </p:blipFill>
        <p:spPr>
          <a:xfrm>
            <a:off x="928800" y="278604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矩形 36867"/>
          <p:cNvSpPr/>
          <p:nvPr/>
        </p:nvSpPr>
        <p:spPr>
          <a:xfrm>
            <a:off x="685800" y="127332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恰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似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如饥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似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渴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似的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美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āi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      差不多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禁止吸烟 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ì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禁不住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ī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衣冠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ā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     全班之冠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à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向那里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è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奔跑 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ē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外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è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         区分（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ē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沉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甸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ā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àn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甸子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ànz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6868"/>
          <p:cNvSpPr/>
          <p:nvPr/>
        </p:nvSpPr>
        <p:spPr>
          <a:xfrm>
            <a:off x="4876920" y="12193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6869"/>
          <p:cNvSpPr txBox="1"/>
          <p:nvPr/>
        </p:nvSpPr>
        <p:spPr>
          <a:xfrm>
            <a:off x="2971800" y="45720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3399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能读准</a:t>
            </a:r>
            <a:endParaRPr b="0" lang="en-US" sz="1800" spc="1" strike="noStrike">
              <a:ln w="19080">
                <a:solidFill>
                  <a:srgbClr val="ff3399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8" name="图片 36870" descr="dushunvhai"/>
          <p:cNvPicPr/>
          <p:nvPr/>
        </p:nvPicPr>
        <p:blipFill>
          <a:blip r:embed="rId1"/>
          <a:stretch/>
        </p:blipFill>
        <p:spPr>
          <a:xfrm>
            <a:off x="228600" y="152280"/>
            <a:ext cx="896760" cy="11192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36871" descr="48_66453_ea4af53165747cc"/>
          <p:cNvPicPr/>
          <p:nvPr/>
        </p:nvPicPr>
        <p:blipFill>
          <a:blip r:embed="rId2"/>
          <a:stretch/>
        </p:blipFill>
        <p:spPr>
          <a:xfrm>
            <a:off x="7620120" y="380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130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99"/>
                </a:solidFill>
                <a:latin typeface="Arial"/>
              </a:rPr>
              <a:t>我会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29699"/>
          <p:cNvSpPr/>
          <p:nvPr/>
        </p:nvSpPr>
        <p:spPr>
          <a:xfrm>
            <a:off x="533520" y="14479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比喻　心扉　一阕　呐喊　水浒　过瘾　卓娅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磁石　锻炼　酵母　皎洁　誊抄　借鉴　眼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赞誉　沉甸甸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文本框 29700"/>
          <p:cNvSpPr/>
          <p:nvPr/>
        </p:nvSpPr>
        <p:spPr>
          <a:xfrm>
            <a:off x="3886200" y="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29703"/>
          <p:cNvSpPr/>
          <p:nvPr/>
        </p:nvSpPr>
        <p:spPr>
          <a:xfrm>
            <a:off x="5715000" y="-351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29710"/>
          <p:cNvSpPr/>
          <p:nvPr/>
        </p:nvSpPr>
        <p:spPr>
          <a:xfrm>
            <a:off x="6477120" y="6507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图片 29712" descr="dushunvhai"/>
          <p:cNvPicPr/>
          <p:nvPr/>
        </p:nvPicPr>
        <p:blipFill>
          <a:blip r:embed="rId1"/>
          <a:stretch/>
        </p:blipFill>
        <p:spPr>
          <a:xfrm>
            <a:off x="228600" y="152280"/>
            <a:ext cx="896760" cy="111924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29713" descr="48_66453_ea4af53165747cc"/>
          <p:cNvPicPr/>
          <p:nvPr/>
        </p:nvPicPr>
        <p:blipFill>
          <a:blip r:embed="rId2"/>
          <a:stretch/>
        </p:blipFill>
        <p:spPr>
          <a:xfrm>
            <a:off x="7620120" y="380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文本框 41985"/>
          <p:cNvSpPr/>
          <p:nvPr/>
        </p:nvSpPr>
        <p:spPr>
          <a:xfrm>
            <a:off x="17928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大黑简体"/>
              </a:rPr>
              <a:t>熟读并理解下面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41986"/>
          <p:cNvSpPr/>
          <p:nvPr/>
        </p:nvSpPr>
        <p:spPr>
          <a:xfrm>
            <a:off x="250920" y="1052640"/>
            <a:ext cx="871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光溢彩　呐喊助威　津津有味　天长日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醉如痴　浮想联翩　泪落如珠　囫囵吞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求甚解　悲欢离合　牵肠挂肚　如饥似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言而喻　黯然神伤　千篇一律　天高气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淡日丽　香飘四野　别出心裁　与众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显身手　心安理得　呕心沥血　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文本框 58376"/>
          <p:cNvSpPr/>
          <p:nvPr/>
        </p:nvSpPr>
        <p:spPr>
          <a:xfrm>
            <a:off x="1981080" y="2133720"/>
            <a:ext cx="6172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58379"/>
          <p:cNvSpPr/>
          <p:nvPr/>
        </p:nvSpPr>
        <p:spPr>
          <a:xfrm>
            <a:off x="68580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58380"/>
          <p:cNvSpPr/>
          <p:nvPr/>
        </p:nvSpPr>
        <p:spPr>
          <a:xfrm>
            <a:off x="1600200" y="3505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58381"/>
          <p:cNvSpPr/>
          <p:nvPr/>
        </p:nvSpPr>
        <p:spPr>
          <a:xfrm>
            <a:off x="3794040" y="3444840"/>
            <a:ext cx="39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58382"/>
          <p:cNvSpPr/>
          <p:nvPr/>
        </p:nvSpPr>
        <p:spPr>
          <a:xfrm>
            <a:off x="4648320" y="3429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58383"/>
          <p:cNvSpPr/>
          <p:nvPr/>
        </p:nvSpPr>
        <p:spPr>
          <a:xfrm>
            <a:off x="593640" y="444024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58384"/>
          <p:cNvSpPr/>
          <p:nvPr/>
        </p:nvSpPr>
        <p:spPr>
          <a:xfrm>
            <a:off x="1600200" y="4419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58385"/>
          <p:cNvSpPr/>
          <p:nvPr/>
        </p:nvSpPr>
        <p:spPr>
          <a:xfrm>
            <a:off x="3886200" y="434340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酵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58386"/>
          <p:cNvSpPr/>
          <p:nvPr/>
        </p:nvSpPr>
        <p:spPr>
          <a:xfrm>
            <a:off x="487692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8387"/>
          <p:cNvSpPr/>
          <p:nvPr/>
        </p:nvSpPr>
        <p:spPr>
          <a:xfrm>
            <a:off x="609480" y="139716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囫囵吞枣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ú lún tūn zǎ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【解释】：囫囵：整个儿。把枣整个咽下去，不加咀嚼，不辨滋味。比喻对事物不加分析思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图片 58388" descr="dushunvhai"/>
          <p:cNvPicPr/>
          <p:nvPr/>
        </p:nvPicPr>
        <p:blipFill>
          <a:blip r:embed="rId1"/>
          <a:stretch/>
        </p:blipFill>
        <p:spPr>
          <a:xfrm>
            <a:off x="7238880" y="152280"/>
            <a:ext cx="89712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0:56:48Z</dcterms:created>
  <dc:creator/>
  <dc:description/>
  <dc:language>en-US</dc:language>
  <cp:lastModifiedBy>万润仪器贸易公司</cp:lastModifiedBy>
  <dcterms:modified xsi:type="dcterms:W3CDTF">2020-08-24T06:37:27Z</dcterms:modified>
  <cp:revision>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